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twitch1.wav" ContentType="audio/x-wav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45.png" ContentType="image/png"/>
  <Override PartName="/ppt/media/CAMERA.WAV" ContentType="audio/x-wav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2.png" ContentType="image/png"/>
  <Override PartName="/ppt/media/image14.png" ContentType="image/png"/>
  <Override PartName="/ppt/media/image49.png" ContentType="image/png"/>
  <Override PartName="/ppt/media/image18.png" ContentType="image/png"/>
  <Override PartName="/ppt/media/image5.png" ContentType="image/png"/>
  <Override PartName="/ppt/media/image17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51.png" ContentType="image/png"/>
  <Override PartName="/ppt/media/image55.png" ContentType="image/png"/>
  <Override PartName="/ppt/media/image12.wmf" ContentType="image/x-wmf"/>
  <Override PartName="/ppt/media/image9.png" ContentType="image/png"/>
  <Override PartName="/ppt/media/image39.png" ContentType="image/png"/>
  <Override PartName="/ppt/media/image6.wmf" ContentType="image/x-wmf"/>
  <Override PartName="/ppt/media/image11.png" ContentType="image/png"/>
  <Override PartName="/ppt/media/image48.png" ContentType="image/png"/>
  <Override PartName="/ppt/media/image28.png" ContentType="image/png"/>
  <Override PartName="/ppt/media/image29.png" ContentType="image/png"/>
  <Override PartName="/ppt/media/image30.png" ContentType="image/png"/>
  <Override PartName="/ppt/media/image31.png" ContentType="image/png"/>
  <Override PartName="/ppt/media/image34.wmf" ContentType="image/x-wmf"/>
  <Override PartName="/ppt/media/image36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52.jpeg" ContentType="image/jpeg"/>
  <Override PartName="/ppt/media/image53.png" ContentType="image/png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4B3-F642-41CC-8336-D413D0FD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49F-2931-4DAC-84C8-310D8419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5E6-F306-4799-9C2D-D8598CBC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819-2973-455C-94D6-252570BD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1DB-55D7-4CB1-ABF5-65D7403B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3F0-2275-4263-9BB6-3609D2C4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8EC-AB92-4663-B8EF-E3EE9048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FF5-BFD8-44A0-B603-8F1AEB4B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7DA-D5CD-43FC-A242-E4003E8E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66B-FAA0-415E-B1DF-ECD47ED8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99B-0838-4AF9-B224-FB14CAB3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C50-9404-4065-9484-FDECCF70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629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hyperlink" Target="http://www.myschoolhouse.com/courses/O/1/16.asp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harcourtschool.com/activity/mult/mult.html" TargetMode="External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lluminations.nctm.org/tools/tool_detail.aspx?id=12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ki.org.nz/r/wick_ed/maths/interactives_matrix.php" TargetMode="External"/><Relationship Id="rId3" Type="http://schemas.openxmlformats.org/officeDocument/2006/relationships/hyperlink" Target="http://www.bbc.co.uk/education/mathsfile/shockwave/games/gridgame.html" TargetMode="External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beaconlearningcenter.com/WebLessons/GroupsOfDogs/default.htm" TargetMode="External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amblesideprimary.com/ambleweb/mentalmaths/dividermachine.html" TargetMode="External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nlvm.usu.edu/en/nav/frames_asid_193_g_2_t_1.html" TargetMode="External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k/greaterlessthanl.cf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idsolr.com/math/fractions.html" TargetMode="External"/><Relationship Id="rId3" Type="http://schemas.openxmlformats.org/officeDocument/2006/relationships/hyperlink" Target="http://math.rice.edu/~lanius/fractions/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sualfractions.com/MixtoFrCircle.html" TargetMode="External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arningplanet.com/sam/ff/index.asp" TargetMode="External"/><Relationship Id="rId3" Type="http://schemas.openxmlformats.org/officeDocument/2006/relationships/hyperlink" Target="http://euclid.barry.edu/~marinas/mat476/journal/sim319df.html" TargetMode="External"/><Relationship Id="rId4" Type="http://schemas.openxmlformats.org/officeDocument/2006/relationships/hyperlink" Target="http://www.shodor.org/interactivate/activities/fracsorter/index.html" TargetMode="External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mblesideprimary.com/ambleweb/mentalmaths/fracto.html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321know.com/cmp42bx2.htm" TargetMode="External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sonline.co.uk/freesite_tour/resource/whiteboard/decimals/dec_notes.html" TargetMode="External"/><Relationship Id="rId3" Type="http://schemas.openxmlformats.org/officeDocument/2006/relationships/hyperlink" Target="http://www.shodor.org/interactivate/activities/fracsorter/index.html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stories.com/strategies.htm" TargetMode="External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http://www.studyzone.org/testprep/math4/k/chartprobl.cfm" TargetMode="External"/><Relationship Id="rId4" Type="http://schemas.openxmlformats.org/officeDocument/2006/relationships/hyperlink" Target="http://www.mathstories.com/strategies_makeatable.htm" TargetMode="External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stories.com/strategies_guesscheck.htm" TargetMode="External"/><Relationship Id="rId3" Type="http://schemas.openxmlformats.org/officeDocument/2006/relationships/hyperlink" Target="http://www.mathstories.com/strategies_guesscheck.htm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www.mathstories.com/strategies_drawpicture.htm" TargetMode="External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stories.com/strategies_makealist.htm" TargetMode="External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stories.com/strategies_working_backward.htm" TargetMode="External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alphasoftware.com/products/a5v5/images2/image043.gif&amp;imgrefurl=http://www.alphasoftware.com/products/a5v5/developer/smartfields.asp&amp;h=194&amp;w=200&amp;sz=6&amp;tbnid=var1LyHIr80J:&amp;tbnh=96&amp;tbnw=99&amp;hl=en&amp;start=16&amp;prev=/images%3Fq%3Dcalculator%2Bicon%26svnum%3D10%26hl%3Den%26lr%3D" TargetMode="External"/><Relationship Id="rId3" Type="http://schemas.openxmlformats.org/officeDocument/2006/relationships/image" Target="../media/image23.jpeg"/><Relationship Id="rId4" Type="http://schemas.openxmlformats.org/officeDocument/2006/relationships/hyperlink" Target="http://edschool.csuhayward.edu/departments/ted/instruction/howe/5350/1-calculatorRiddles.html" TargetMode="External"/><Relationship Id="rId5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lvm.usu.edu/en/nav/frames_asid_273_g_2_t_4.html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lvm.usu.edu/en/nav/frames_asid_172_g_2_t_3.html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tmonster.com/ipka/A0876325.html" TargetMode="External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athworld.wolfram.com/RegularPolygon.html" TargetMode="External"/><Relationship Id="rId3" Type="http://schemas.openxmlformats.org/officeDocument/2006/relationships/hyperlink" Target="http://www.ul.ie/~cahird/polyhedronmode/regular.htm" TargetMode="External"/><Relationship Id="rId4" Type="http://schemas.openxmlformats.org/officeDocument/2006/relationships/hyperlink" Target="http://www.ul.ie/~cahird/polyhedronmode/regular.htm" TargetMode="Externa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aaamath.com/plc31d-placevalue-add.html" TargetMode="External"/><Relationship Id="rId4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gentsprep.org/Regents/math/quad/LQuad.htm" TargetMode="External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league.com/help/geometry/polygons.htm#righttriangle" TargetMode="External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ndards.dfes.gov.uk/primary/publications/mathematics/12874/nns_useict026000carroll.swf" TargetMode="External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jad.best.vwh.net/java/patterns/patterns_j.shtml" TargetMode="External"/><Relationship Id="rId3" Type="http://schemas.openxmlformats.org/officeDocument/2006/relationships/hyperlink" Target="http://www.aplusmath.com/cgi-bin/games/geopicture" TargetMode="External"/><Relationship Id="rId4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l.ie/~cahird/polyhedronmode/decagon.htm" TargetMode="External"/><Relationship Id="rId3" Type="http://schemas.openxmlformats.org/officeDocument/2006/relationships/hyperlink" Target="http://www.ul.ie/~cahird/polyhedronmode/decagon.htm" TargetMode="External"/><Relationship Id="rId4" Type="http://schemas.openxmlformats.org/officeDocument/2006/relationships/hyperlink" Target="http://images.google.com/imgres?imgurl=http://www.m-w.com/mw/art/decagon.gif&amp;imgrefurl=http://www.m-w.com/mw/art/decagon.htm&amp;h=201&amp;w=214&amp;sz=3&amp;tbnid=ECOXV3cD5Y0W-M:&amp;tbnh=94&amp;tbnw=101&amp;hl=en&amp;start=2&amp;prev=/images%3Fq%3Ddecagon%26svnum%3D10%26hl%3Den%26lr%3D%26sa%3DN%26domains%3Dhttp://www.clevelandcountyschools.org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nkmonkey.com/studyguides/subjects/geometry/chap1/g0101201.asp" TargetMode="External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league.com/help/geometry/basicterms.htm#rays" TargetMode="External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athworld.wolfram.com/VertexAngle.html" TargetMode="External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idport.com/Grade5/Math/MeasureGeo/MeasuringAngles.htm" TargetMode="External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twitch1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rsbogucki.com/aemes/resource/apps/placeval/placeval.htm" TargetMode="External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twitch1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unbrain.com/poly/" TargetMode="External"/><Relationship Id="rId3" Type="http://schemas.openxmlformats.org/officeDocument/2006/relationships/hyperlink" Target="http://www.shodor.org/interactivate/activities/permarea/index.html" TargetMode="External"/><Relationship Id="rId4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odor.org/interactivate/activities/perm/index.html" TargetMode="External"/><Relationship Id="rId3" Type="http://schemas.openxmlformats.org/officeDocument/2006/relationships/hyperlink" Target="http://www.shodor.org/interactivate/activities/perm/index.html" TargetMode="External"/><Relationship Id="rId4" Type="http://schemas.openxmlformats.org/officeDocument/2006/relationships/hyperlink" Target="http://www.studyzone.org/testprep/math4/d/metricunitl.cfm" TargetMode="External"/><Relationship Id="rId5" Type="http://schemas.openxmlformats.org/officeDocument/2006/relationships/hyperlink" Target="http://www.studyzone.org/testprep/math4/d/customaryunitl.cfm" TargetMode="External"/><Relationship Id="rId6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odor.org/interactivate/activities/perm/index.html" TargetMode="External"/><Relationship Id="rId3" Type="http://schemas.openxmlformats.org/officeDocument/2006/relationships/hyperlink" Target="http://www.shodor.org/interactivate/activities/perm/index.html" TargetMode="External"/><Relationship Id="rId4" Type="http://schemas.openxmlformats.org/officeDocument/2006/relationships/hyperlink" Target="http://www.studyzone.org/testprep/math4/d/metricunitl.cfm" TargetMode="External"/><Relationship Id="rId5" Type="http://schemas.openxmlformats.org/officeDocument/2006/relationships/hyperlink" Target="http://www.studyzone.org/testprep/math4/d/customaryunitl.cfm" TargetMode="External"/><Relationship Id="rId6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cats.com/crafts/grids.html" TargetMode="External"/><Relationship Id="rId3" Type="http://schemas.openxmlformats.org/officeDocument/2006/relationships/hyperlink" Target="http://www.studyzone.org/testprep/math4/d/orderpairp.cfm" TargetMode="External"/><Relationship Id="rId4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odor.org/interactivate/activities/coords2/index.html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omeschoolmath.net/teaching/g/parallel_and_perpendicular.php" TargetMode="External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omeschoolmath.net/teaching/g/parallel_and_perpendicular.php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cytech.org/java/b10blocks/b10blocks.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snet.net/shape/category1.html" TargetMode="External"/><Relationship Id="rId3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omeschoolmath.net/teaching/g/parallel_and_perpendicular.php" TargetMode="External"/><Relationship Id="rId3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omeschoolmath.net/teaching/g/parallel_and_perpendicular.php" TargetMode="External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arcourtschool.com/activity/icy_slides_flips_turns/" TargetMode="External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hyperlink" Target="http://regentsprep.org/Regents/Math/reflect/PracRefl.htm" TargetMode="External"/><Relationship Id="rId4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hyperlink" Target="http://regentsprep.org/Regents/Math/trans/PracTran.htm" TargetMode="External"/><Relationship Id="rId4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hyperlink" Target="http://www.utc.edu/Faculty/Christopher-Mawata/transformations/rotations/lesson1c.html" TargetMode="External"/><Relationship Id="rId6" Type="http://schemas.openxmlformats.org/officeDocument/2006/relationships/hyperlink" Target="http://regentsprep.org/Regents/Math/rotate/PracRot.htm" TargetMode="External"/><Relationship Id="rId7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mblesideprimary.com/ambleweb/mentalmaths/interactivenumbergrids.html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d/collectdata4l.cfm" TargetMode="External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d/tablestallyl.cfm" TargetMode="External"/><Relationship Id="rId3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odor.org/interactivate/activities/venndia/index.html" TargetMode="External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hyperlink" Target="http://www.studyzone.org/testprep/math4/d/rangel.cfm" TargetMode="External"/><Relationship Id="rId4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hyperlink" Target="http://www.oswego.org/ocsd-web/quiz/mquiz.asp?filename=ccarrollgraph" TargetMode="External"/><Relationship Id="rId4" Type="http://schemas.openxmlformats.org/officeDocument/2006/relationships/hyperlink" Target="http://www.studyzone.org/testprep/math4/d/graphdatal.cfm" TargetMode="External"/><Relationship Id="rId5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cwdn.org/Graphs/BarGraph.html" TargetMode="External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hyperlink" Target="http://www.mathleague.com/help/data/data.htm" TargetMode="External"/><Relationship Id="rId4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cwdn.org/Graphs/LineGraph.html" TargetMode="External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cwdn.org/Graphs/CirclePieQuiz.html" TargetMode="External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gentsprep.org/Regents/math/mean/Pmeasure.ht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d/commutativep.cfm" TargetMode="External"/><Relationship Id="rId3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uizville.com/range.php" TargetMode="External"/><Relationship Id="rId3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goodies.com/lessons/vol6/intro_probability.html" TargetMode="External"/><Relationship Id="rId3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d/outcomel.cfm" TargetMode="External"/><Relationship Id="rId3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d/likelyl.cfm" TargetMode="External"/><Relationship Id="rId3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gnarlymath.com/coin1.gif&amp;imgrefurl=http://www.gnarlymath.com/gnarart2.html&amp;h=150&amp;w=150&amp;sz=3&amp;tbnid=zGdQ4XZc0V8J:&amp;tbnh=90&amp;tbnw=90&amp;start=5&amp;prev=/images%3Fq%3Dflip%2Ba%2Bcoin%26hl%3Den%26lr%3D" TargetMode="External"/><Relationship Id="rId3" Type="http://schemas.openxmlformats.org/officeDocument/2006/relationships/image" Target="../media/image52.jpeg"/><Relationship Id="rId4" Type="http://schemas.openxmlformats.org/officeDocument/2006/relationships/hyperlink" Target="http://www.studyzone.org/testprep/math4/d/likelyl.cfm" TargetMode="External"/><Relationship Id="rId5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odor.org/interactivate/activities/spinner/index.html" TargetMode="External"/><Relationship Id="rId3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bc.co.uk/education/mathsfile/shockwave/games/fish.html" TargetMode="External"/><Relationship Id="rId3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agonyaunt.co.uk/STATISTICS/ESP/Perms_combs.html" TargetMode="External"/><Relationship Id="rId3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d/commutativep.cfm" TargetMode="External"/><Relationship Id="rId3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udyzone.org/testprep/math4/k/addpatternsl.cfm" TargetMode="External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hyperlink" Target="http://www.studyzone.org/testprep/math4/d/numericalp.cfm" TargetMode="External"/><Relationship Id="rId4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achers.ash.org.au/jeather/maths/dictionary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3962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06-07 DPI 4th grade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124080" y="2286000"/>
            <a:ext cx="3124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th Vocabul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38088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answer close to the exact answer. Usually found by rounding to the nearest 10 or 100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pproximately/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438280"/>
            <a:ext cx="6934320" cy="259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819520" y="2657520"/>
            <a:ext cx="3429000" cy="2219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52880" y="3267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800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4334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5040" y="6172200"/>
            <a:ext cx="54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yschoolhouse.com/courses/O/1/16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3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mathematical operation where a number is added to itself  a number of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25780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752480"/>
            <a:ext cx="7238880" cy="3276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rcytech.org/java/b10blocks/b10block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6400800" cy="245448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3276720" y="4419360"/>
            <a:ext cx="4495680" cy="686160"/>
            <a:chOff x="3276720" y="4419360"/>
            <a:chExt cx="4495680" cy="686160"/>
          </a:xfrm>
        </p:grpSpPr>
        <p:sp>
          <p:nvSpPr>
            <p:cNvPr id="133" name=""/>
            <p:cNvSpPr/>
            <p:nvPr/>
          </p:nvSpPr>
          <p:spPr>
            <a:xfrm>
              <a:off x="3276720" y="4648320"/>
              <a:ext cx="114300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c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29400" y="4419720"/>
              <a:ext cx="114300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419720" y="457200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43400" y="44953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6248520" y="441936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352680" y="1905120"/>
            <a:ext cx="46483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ed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360" y="6248520"/>
            <a:ext cx="55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arcourtschool.com/activity/mult/mul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6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7" dur="250" autoRev="1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38088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s that divide exactly into another number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25780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286000"/>
            <a:ext cx="6934320" cy="259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,2,3,4,6,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,2,3,4,6,9,12,18,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1,2,3,4,6,8,12,16,24,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632448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lluminations.nctm.org/tools/tool_detail.aspx?id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5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6" dur="250" autoRev="1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38088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 that results from multiplying a given number by a set of whole numb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25780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ultip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590920"/>
            <a:ext cx="6934320" cy="259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, 8, 12, 16, 20, 24, 28, 32, 36,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6, 12, 18, 24, 36, 42, 48, 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8,16, 24, 32, 40, 48,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6324480"/>
            <a:ext cx="6553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ki.org.nz/r/wick_ed/maths/interactives_matrix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bc.co.uk/education/mathsfile/shockwave/games/gridga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3" dur="25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5334120"/>
            <a:ext cx="883908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304920"/>
            <a:ext cx="815364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et of objects or numbers arranged in rows and colum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600200"/>
            <a:ext cx="8534160" cy="373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246480" cy="2538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990720" y="2057400"/>
            <a:ext cx="3200400" cy="2540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62164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beaconlearningcenter.com/WebLessons/GroupsOfDogs/defaul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4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5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ing or Grouping a number into equal p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10552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iv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752480"/>
            <a:ext cx="7238880" cy="3276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95280" y="2178000"/>
            <a:ext cx="6858000" cy="2617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18120" y="6172200"/>
            <a:ext cx="816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mblesideprimary.com/ambleweb/mentalmaths/dividermachin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6095520" y="4572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487692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6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7" dur="250" autoRev="1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772400" cy="4273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2120" y="4495680"/>
            <a:ext cx="2590560" cy="222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 Number being divid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4495680"/>
            <a:ext cx="2743200" cy="222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number that will divide the dividen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4556160"/>
            <a:ext cx="2286000" cy="16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 result of a divi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-1009800"/>
            <a:ext cx="1143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905120"/>
            <a:ext cx="15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1143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13716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1600200"/>
            <a:ext cx="1371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 rot="808800">
            <a:off x="7314840" y="1752120"/>
            <a:ext cx="1306440" cy="1524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162920" y="1523880"/>
            <a:ext cx="457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2743200"/>
            <a:ext cx="533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657600"/>
            <a:ext cx="8153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581280"/>
            <a:ext cx="8153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ividend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Divisor     Quot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visibility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380880"/>
            <a:ext cx="883908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ount left over after dividing a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487692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1447920"/>
            <a:ext cx="7239240" cy="32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6934320" cy="876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708440" y="1332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1676520"/>
            <a:ext cx="2819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20574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657600"/>
            <a:ext cx="3810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Dividing is Sharing Equally!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6877800" y="2646720"/>
            <a:ext cx="74520" cy="1790640"/>
          </a:xfrm>
          <a:custGeom>
            <a:avLst/>
            <a:gdLst>
              <a:gd name="textAreaLeft" fmla="*/ 47520 w 74520"/>
              <a:gd name="textAreaRight" fmla="*/ 74880 w 74520"/>
              <a:gd name="textAreaTop" fmla="*/ 46440 h 1790640"/>
              <a:gd name="textAreaBottom" fmla="*/ 1744200 h 179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6095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lvm.usu.edu/en/nav/frames_asid_193_g_2_t_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8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9" dur="250" autoRev="1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5334120"/>
            <a:ext cx="883908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qual to/not equal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304920"/>
            <a:ext cx="815364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bols used to determine relationships of equal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676520"/>
            <a:ext cx="8534520" cy="37335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6172200"/>
            <a:ext cx="66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udyzone.org/testprep/math4/k/greaterlessthan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9480" y="1828800"/>
            <a:ext cx="8077320" cy="2973960"/>
            <a:chOff x="609480" y="1828800"/>
            <a:chExt cx="8077320" cy="2973960"/>
          </a:xfrm>
        </p:grpSpPr>
        <p:sp>
          <p:nvSpPr>
            <p:cNvPr id="193" name=""/>
            <p:cNvSpPr/>
            <p:nvPr/>
          </p:nvSpPr>
          <p:spPr>
            <a:xfrm>
              <a:off x="1219320" y="3200400"/>
              <a:ext cx="1600200" cy="398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qual 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480" y="1828800"/>
              <a:ext cx="2667240" cy="132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5 = .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30 = .3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29000" y="2971800"/>
              <a:ext cx="2438280" cy="132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5  =.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3 =  .0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9920" y="2133720"/>
              <a:ext cx="2666880" cy="113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  &lt; 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 =.1,.2,.3,.4,or 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483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43400" y="3810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9880" y="4403880"/>
              <a:ext cx="1600200" cy="398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t equal 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38880" y="2590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00800" y="3581640"/>
              <a:ext cx="1600200" cy="703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ss than or equal 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5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6" dur="250" autoRev="1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09680" y="2362320"/>
            <a:ext cx="5105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al 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920" y="38088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al parts of a whole or group written with a numerator and a denominat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510552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6275520"/>
            <a:ext cx="6553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idsolr.com/math/fraction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th.rice.edu/~lanius/fraction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33520" y="2362320"/>
            <a:ext cx="8153280" cy="2743200"/>
            <a:chOff x="533520" y="2362320"/>
            <a:chExt cx="8153280" cy="2743200"/>
          </a:xfrm>
        </p:grpSpPr>
        <p:sp>
          <p:nvSpPr>
            <p:cNvPr id="206" name=""/>
            <p:cNvSpPr/>
            <p:nvPr/>
          </p:nvSpPr>
          <p:spPr>
            <a:xfrm>
              <a:off x="533520" y="2362320"/>
              <a:ext cx="8153280" cy="2743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4"/>
            <a:stretch/>
          </p:blipFill>
          <p:spPr>
            <a:xfrm>
              <a:off x="3733920" y="2666880"/>
              <a:ext cx="12189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438280" y="4038480"/>
              <a:ext cx="3886200" cy="78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Num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-Denomin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24080" y="4419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50" autoRev="1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5" dur="250" autoRev="1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6" dur="250" autoRev="1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4952880" y="3581280"/>
            <a:ext cx="3733920" cy="2895840"/>
            <a:chOff x="4952880" y="3581280"/>
            <a:chExt cx="3733920" cy="2895840"/>
          </a:xfrm>
        </p:grpSpPr>
        <p:grpSp>
          <p:nvGrpSpPr>
            <p:cNvPr id="211" name=""/>
            <p:cNvGrpSpPr/>
            <p:nvPr/>
          </p:nvGrpSpPr>
          <p:grpSpPr>
            <a:xfrm>
              <a:off x="5562720" y="3581280"/>
              <a:ext cx="3124080" cy="2895840"/>
              <a:chOff x="5562720" y="3581280"/>
              <a:chExt cx="3124080" cy="2895840"/>
            </a:xfrm>
          </p:grpSpPr>
          <p:sp>
            <p:nvSpPr>
              <p:cNvPr id="212" name=""/>
              <p:cNvSpPr/>
              <p:nvPr/>
            </p:nvSpPr>
            <p:spPr>
              <a:xfrm>
                <a:off x="5562720" y="3581280"/>
                <a:ext cx="3124080" cy="2895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95880" y="4495680"/>
                <a:ext cx="7621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05720" y="502920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4952880" y="5029200"/>
              <a:ext cx="1143000" cy="6426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ole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867280" y="5105160"/>
              <a:ext cx="3812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67480" y="3962520"/>
              <a:ext cx="114300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91160" y="4495680"/>
              <a:ext cx="1522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33520" y="3505320"/>
            <a:ext cx="3132000" cy="289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4876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793960" y="457200"/>
            <a:ext cx="3454560" cy="2895480"/>
            <a:chOff x="2793960" y="457200"/>
            <a:chExt cx="3454560" cy="2895480"/>
          </a:xfrm>
        </p:grpSpPr>
        <p:sp>
          <p:nvSpPr>
            <p:cNvPr id="222" name=""/>
            <p:cNvSpPr/>
            <p:nvPr/>
          </p:nvSpPr>
          <p:spPr>
            <a:xfrm>
              <a:off x="2793960" y="457200"/>
              <a:ext cx="3454560" cy="2895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625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143000" y="655308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isualfractions.com/MixtoFrCircl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3124080"/>
            <a:ext cx="403884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ra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876560" y="914400"/>
            <a:ext cx="3123720" cy="1556280"/>
            <a:chOff x="4876560" y="914400"/>
            <a:chExt cx="3123720" cy="1556280"/>
          </a:xfrm>
        </p:grpSpPr>
        <p:sp>
          <p:nvSpPr>
            <p:cNvPr id="227" name=""/>
            <p:cNvSpPr/>
            <p:nvPr/>
          </p:nvSpPr>
          <p:spPr>
            <a:xfrm flipH="1">
              <a:off x="4876560" y="1073520"/>
              <a:ext cx="42228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52280" y="914400"/>
              <a:ext cx="2448000" cy="15562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Numerator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number of each par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62120" y="1600200"/>
            <a:ext cx="3580920" cy="1556280"/>
            <a:chOff x="762120" y="1600200"/>
            <a:chExt cx="3580920" cy="1556280"/>
          </a:xfrm>
        </p:grpSpPr>
        <p:sp>
          <p:nvSpPr>
            <p:cNvPr id="230" name=""/>
            <p:cNvSpPr/>
            <p:nvPr/>
          </p:nvSpPr>
          <p:spPr>
            <a:xfrm>
              <a:off x="3388320" y="2079720"/>
              <a:ext cx="95472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2120" y="1600200"/>
              <a:ext cx="2626200" cy="15562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Denominator: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number of par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28600" y="5943600"/>
            <a:ext cx="3276720" cy="5814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per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6019920"/>
            <a:ext cx="3429000" cy="5814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e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ctions that are the same or eq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815000"/>
            <a:ext cx="853452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quivalent Fra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5715000"/>
            <a:ext cx="655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earningplanet.com/sam/ff/index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uclid.barry.edu/~marinas/mat476/journal/sim319df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hodor.org/interactivate/activities/fracsorter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47920" y="2057400"/>
            <a:ext cx="6324480" cy="2743200"/>
            <a:chOff x="1447920" y="2057400"/>
            <a:chExt cx="6324480" cy="2743200"/>
          </a:xfrm>
        </p:grpSpPr>
        <p:sp>
          <p:nvSpPr>
            <p:cNvPr id="238" name=""/>
            <p:cNvSpPr/>
            <p:nvPr/>
          </p:nvSpPr>
          <p:spPr>
            <a:xfrm>
              <a:off x="1447920" y="2057400"/>
              <a:ext cx="6324480" cy="2743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" descr="circle"/>
            <p:cNvPicPr/>
            <p:nvPr/>
          </p:nvPicPr>
          <p:blipFill>
            <a:blip r:embed="rId5"/>
            <a:stretch/>
          </p:blipFill>
          <p:spPr>
            <a:xfrm>
              <a:off x="2195640" y="2187720"/>
              <a:ext cx="2094120" cy="20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circle"/>
            <p:cNvPicPr/>
            <p:nvPr/>
          </p:nvPicPr>
          <p:blipFill>
            <a:blip r:embed="rId6"/>
            <a:stretch/>
          </p:blipFill>
          <p:spPr>
            <a:xfrm>
              <a:off x="4779720" y="2187720"/>
              <a:ext cx="2094120" cy="20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263680" y="4277880"/>
              <a:ext cx="455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/2               =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3/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438280" y="1447920"/>
            <a:ext cx="4191120" cy="398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l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048120" y="160020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5000" y="16002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5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5" dur="25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6" dur="250" autoRev="1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4920" y="380880"/>
            <a:ext cx="8458200" cy="19227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fraction written as a deci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10552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Decimal Frac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6275520"/>
            <a:ext cx="65530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mblesideprimary.com/ambleweb/mentalmaths/fracto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2362320"/>
            <a:ext cx="8153280" cy="2743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219320" y="2649600"/>
            <a:ext cx="69339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7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04920" y="38088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s written in standard form to show a value less than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510552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6467400"/>
            <a:ext cx="655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321know.com/cmp42bx2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66680" y="1828800"/>
            <a:ext cx="7086600" cy="3200400"/>
            <a:chOff x="1066680" y="1828800"/>
            <a:chExt cx="7086600" cy="3200400"/>
          </a:xfrm>
        </p:grpSpPr>
        <p:sp>
          <p:nvSpPr>
            <p:cNvPr id="254" name=""/>
            <p:cNvSpPr/>
            <p:nvPr/>
          </p:nvSpPr>
          <p:spPr>
            <a:xfrm>
              <a:off x="1066680" y="1828800"/>
              <a:ext cx="7086600" cy="3200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.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.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.0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95480" y="25146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95480" y="34290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4080" y="43434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952880" y="2209680"/>
            <a:ext cx="243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2209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-te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31240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-hundred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39625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-thousand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7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8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4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04920" y="442800"/>
            <a:ext cx="845820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 on which numbers, decimals and fractions can be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compar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or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502920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6019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sonline.co.uk/freesite_tour/resource/whiteboard/decimals/dec_not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hodor.org/interactivate/activities/fracsorter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32004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752480"/>
            <a:ext cx="8534520" cy="3200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990720" y="2185920"/>
            <a:ext cx="6642000" cy="1319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895480" y="1905120"/>
            <a:ext cx="533520" cy="5205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1965240"/>
            <a:ext cx="914400" cy="5205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438280"/>
            <a:ext cx="304920" cy="2286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2438280"/>
            <a:ext cx="304920" cy="2286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1905120"/>
            <a:ext cx="990360" cy="5205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444760"/>
            <a:ext cx="304560" cy="2286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3657600"/>
            <a:ext cx="632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8 &lt; .8          .08 i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ss th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5 &gt; .8           2.25 i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reater th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5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7" dur="25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8" dur="250" autoRev="1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2133720"/>
            <a:ext cx="853416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blem Solving Strategi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69400" y="5791320"/>
            <a:ext cx="44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stories.com/strategie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5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2" dur="25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3" dur="250" autoRev="1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22860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oblem Solving Meth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362320" y="1447920"/>
            <a:ext cx="4724280" cy="39002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362320" y="5334120"/>
            <a:ext cx="4724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Look Back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mic Sans MS"/>
              </a:rPr>
              <a:t>Justify, prove, evaluate or explain the</a:t>
            </a:r>
            <a:r>
              <a:rPr b="1" lang="en-US" sz="1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Comic Sans MS"/>
              </a:rPr>
              <a:t>reasonableness of your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rcRect l="0" t="66427" r="90326" b="15998"/>
          <a:stretch/>
        </p:blipFill>
        <p:spPr>
          <a:xfrm>
            <a:off x="2438280" y="5410080"/>
            <a:ext cx="45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50" autoRev="1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7" dur="250" autoRev="1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8" dur="250" autoRev="1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04920" y="45720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sing a table/cha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286000" y="1871640"/>
            <a:ext cx="4572000" cy="4224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298880" y="6019920"/>
            <a:ext cx="601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tudyzone.org/testprep/math4/k/chartprob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athstories.com/strategies_makeatab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00600" y="5410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9880" y="5653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36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5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250" autoRev="1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04920" y="45720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Guess and Che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99240" y="6019920"/>
            <a:ext cx="58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athstories.com/strategies_guesscheck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0" y="1905120"/>
            <a:ext cx="510552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e Carl divided 15 stone games into two piles: games he owns and games his brother owns. He owns 3 more games than his brother. How many games does his brother ow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5410080"/>
            <a:ext cx="685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 Prince Carl – 9  Brother 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5" dur="25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6" dur="25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7" dur="250" autoRev="1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8088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number that can be written as a positive or negative whole number, fraction, or decimal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525780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ational Num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2743200"/>
            <a:ext cx="7010280" cy="243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528768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45720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ke a diagram/ pic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219320" y="2057400"/>
            <a:ext cx="6564240" cy="3639960"/>
            <a:chOff x="1219320" y="2057400"/>
            <a:chExt cx="6564240" cy="3639960"/>
          </a:xfrm>
        </p:grpSpPr>
        <p:pic>
          <p:nvPicPr>
            <p:cNvPr id="293" name="" descr=""/>
            <p:cNvPicPr/>
            <p:nvPr/>
          </p:nvPicPr>
          <p:blipFill>
            <a:blip r:embed="rId2"/>
            <a:stretch/>
          </p:blipFill>
          <p:spPr>
            <a:xfrm>
              <a:off x="1219320" y="4876920"/>
              <a:ext cx="6564240" cy="8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454040" y="2057400"/>
              <a:ext cx="61074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Question: Laura has 3 green chips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 blue chips an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 red chip in her bag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at fractional par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f the bag of chips is green?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756800" y="6019920"/>
            <a:ext cx="57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athstories.com/strategies_drawpictur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7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250" autoRev="1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45720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ke an organized li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542960"/>
            <a:ext cx="647676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: Jill, Makayla and Tanya don’t want to ride the Farris-wheel alone. How many ways can they ride if the ride will only fit two at a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ll/Makay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ll/Ta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ayla/Ta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32400" y="6537240"/>
            <a:ext cx="55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stories.com/strategies_makealis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3581280"/>
            <a:ext cx="533520" cy="1524240"/>
          </a:xfrm>
          <a:custGeom>
            <a:avLst/>
            <a:gdLst>
              <a:gd name="textAreaLeft" fmla="*/ 340920 w 533520"/>
              <a:gd name="textAreaRight" fmla="*/ 533880 w 5335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52480" y="3930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5424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5638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9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0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45720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ork Backwa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1829160"/>
            <a:ext cx="548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stle kitchen servants brought in 4 pies left over from the feast. 12 pies were eaten at the feast. Queen Mab took 2 home with her. How many pies did the servants bring into the feast at the beginning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2560" y="6019920"/>
            <a:ext cx="64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stories.com/strategies_working_backward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5181480"/>
            <a:ext cx="784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 + 12 + 4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5410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0" y="541008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25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34" dur="25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5" dur="25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45720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Using a calculato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09680" y="1828800"/>
            <a:ext cx="4343400" cy="4213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838080" y="5942160"/>
            <a:ext cx="70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dschool.csuhayward.edu/departments/ted/instruction/howe/5350/1-calculatorRiddl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5" dur="25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6" dur="25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7" dur="250" autoRev="1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4920" y="457200"/>
            <a:ext cx="8534160" cy="155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sing Objects, models, represen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62240" y="6070680"/>
            <a:ext cx="68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lvm.usu.edu/en/nav/frames_asid_273_g_2_t_4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2286000" y="2209680"/>
            <a:ext cx="495288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8" dur="25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69" dur="25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250" autoRev="1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0880" y="304920"/>
            <a:ext cx="8458200" cy="10688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in a problem that does NOT help you solv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5562720"/>
            <a:ext cx="8458200" cy="10083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tra Inform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905120" y="1600200"/>
            <a:ext cx="5410080" cy="3934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asants had to dig a trench 3 feet side to side and 10 times as long. It took them 4 days to dig it. There were 7 of them digging. How long was the trench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0" y="41148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3581280"/>
            <a:ext cx="3733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14800" y="411480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33720" y="47242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895480" y="1600200"/>
            <a:ext cx="3200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al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04920" y="380880"/>
            <a:ext cx="845820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eg-board on which elastic bands are used to make shapes and patter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541008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o Bo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3244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lvm.usu.edu/en/nav/frames_asid_172_g_2_t_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32004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1752480"/>
            <a:ext cx="7391520" cy="358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2971800" y="1847880"/>
            <a:ext cx="33526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4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5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250" autoRev="1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04920" y="685800"/>
            <a:ext cx="8458200" cy="764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hree sided polyg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646740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actmonster.com/ipka/A0876325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85800" y="2133720"/>
            <a:ext cx="7848720" cy="2819160"/>
            <a:chOff x="685800" y="2133720"/>
            <a:chExt cx="7848720" cy="2819160"/>
          </a:xfrm>
        </p:grpSpPr>
        <p:sp>
          <p:nvSpPr>
            <p:cNvPr id="333" name=""/>
            <p:cNvSpPr/>
            <p:nvPr/>
          </p:nvSpPr>
          <p:spPr>
            <a:xfrm>
              <a:off x="685800" y="2133720"/>
              <a:ext cx="7848720" cy="2819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29000" y="2438280"/>
              <a:ext cx="2438280" cy="2210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250" autoRev="1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4" dur="250" autoRev="1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5" dur="250" autoRev="1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04920" y="380880"/>
            <a:ext cx="845820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olygon for which all sides are congruent and all angles are congru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480060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gular Polyg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594360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hworld.wolfram.com/RegularPolyg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ul.ie/~cahird/polyhedronmode/regula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85800" y="1752480"/>
            <a:ext cx="7848720" cy="2971800"/>
            <a:chOff x="685800" y="1752480"/>
            <a:chExt cx="7848720" cy="2971800"/>
          </a:xfrm>
        </p:grpSpPr>
        <p:sp>
          <p:nvSpPr>
            <p:cNvPr id="339" name=""/>
            <p:cNvSpPr/>
            <p:nvPr/>
          </p:nvSpPr>
          <p:spPr>
            <a:xfrm>
              <a:off x="685800" y="1752480"/>
              <a:ext cx="7848720" cy="29718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43000" y="2362320"/>
              <a:ext cx="1219320" cy="121896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71800" y="2286000"/>
              <a:ext cx="1371600" cy="12193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52880" y="2438280"/>
              <a:ext cx="990720" cy="99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77120" y="2362320"/>
              <a:ext cx="1447560" cy="1218960"/>
            </a:xfrm>
            <a:prstGeom prst="hexagon">
              <a:avLst>
                <a:gd name="adj" fmla="val 29688"/>
                <a:gd name="vf" fmla="val 11547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5" dur="25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56" dur="25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7" dur="250" autoRev="1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43200" y="2666880"/>
            <a:ext cx="358128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s of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0880"/>
            <a:ext cx="3581280" cy="11300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and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at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3360" y="1695600"/>
            <a:ext cx="2747880" cy="10508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+20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249640" y="3008160"/>
            <a:ext cx="498240" cy="11829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01720" y="3962520"/>
            <a:ext cx="407880" cy="738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4995720"/>
            <a:ext cx="4572000" cy="59076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hundred twenty-s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5586480"/>
            <a:ext cx="33480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ten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0960" y="4038480"/>
            <a:ext cx="601560" cy="838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29080" y="4952880"/>
            <a:ext cx="3310200" cy="6098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5638680"/>
            <a:ext cx="380988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410080" y="2133360"/>
            <a:ext cx="381240" cy="685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533520"/>
            <a:ext cx="472464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1371600"/>
            <a:ext cx="2514600" cy="114300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5880" y="1447920"/>
            <a:ext cx="2079720" cy="930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4920" y="64911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aamath.com/plc31d-placevalue-ad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y four sided figu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533412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adrilater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43000" y="647712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gentsprep.org/Regents/math/quad/LQuad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33520" y="1676520"/>
            <a:ext cx="8001000" cy="3504960"/>
            <a:chOff x="533520" y="1676520"/>
            <a:chExt cx="8001000" cy="3504960"/>
          </a:xfrm>
        </p:grpSpPr>
        <p:sp>
          <p:nvSpPr>
            <p:cNvPr id="348" name=""/>
            <p:cNvSpPr/>
            <p:nvPr/>
          </p:nvSpPr>
          <p:spPr>
            <a:xfrm>
              <a:off x="533520" y="1676520"/>
              <a:ext cx="8001000" cy="35049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19320" y="2057400"/>
              <a:ext cx="1828800" cy="1523880"/>
            </a:xfrm>
            <a:prstGeom prst="parallelogram">
              <a:avLst>
                <a:gd name="adj" fmla="val 3000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29000" y="2286000"/>
              <a:ext cx="1219320" cy="220968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81480" y="2286000"/>
              <a:ext cx="99072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38680" y="3886200"/>
              <a:ext cx="23623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3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4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04920" y="38088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sided figure, all sides equal, opposite sides parallel, and all right ang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531828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640080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league.com/help/geometry/polygons.htm#right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990720" y="2743200"/>
            <a:ext cx="7010280" cy="2438280"/>
            <a:chOff x="990720" y="2743200"/>
            <a:chExt cx="7010280" cy="2438280"/>
          </a:xfrm>
        </p:grpSpPr>
        <p:sp>
          <p:nvSpPr>
            <p:cNvPr id="357" name=""/>
            <p:cNvSpPr/>
            <p:nvPr/>
          </p:nvSpPr>
          <p:spPr>
            <a:xfrm>
              <a:off x="990720" y="2743200"/>
              <a:ext cx="7010280" cy="243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09880" y="3276720"/>
              <a:ext cx="1371600" cy="12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6" dur="250" autoRev="1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7" dur="250" autoRev="1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8" dur="250" autoRev="1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4920" y="38088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sided figure. opposite sides equal lengths and parallel, all right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0880" y="518148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62485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andards.dfes.gov.uk/primary/publications/mathematics/12874/nns_useict026000carroll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990720" y="2743200"/>
            <a:ext cx="7010280" cy="2438280"/>
            <a:chOff x="990720" y="2743200"/>
            <a:chExt cx="7010280" cy="2438280"/>
          </a:xfrm>
        </p:grpSpPr>
        <p:sp>
          <p:nvSpPr>
            <p:cNvPr id="363" name=""/>
            <p:cNvSpPr/>
            <p:nvPr/>
          </p:nvSpPr>
          <p:spPr>
            <a:xfrm>
              <a:off x="990720" y="2743200"/>
              <a:ext cx="7010280" cy="243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52480" y="3276720"/>
              <a:ext cx="5639040" cy="144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3" dur="250" autoRev="1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4" dur="250" autoRev="1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5" dur="250" autoRev="1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28600" y="304920"/>
            <a:ext cx="304812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ided figure. Opposite sides equal lengths and 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1981080"/>
            <a:ext cx="24382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6261120"/>
            <a:ext cx="655308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jad.best.vwh.net/java/patterns/patterns_j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plusmath.com/cgi-bin/games/geo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3048120"/>
            <a:ext cx="304812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ided figure. opposite sides equal lengths and parallel, opposite angles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105520"/>
            <a:ext cx="2286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om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380880"/>
            <a:ext cx="3048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six sided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77120" y="2057400"/>
            <a:ext cx="2286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x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3200400"/>
            <a:ext cx="3048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ight sided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5029200"/>
            <a:ext cx="2286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6600" y="3733920"/>
            <a:ext cx="990720" cy="9903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1447920"/>
            <a:ext cx="304776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sided figure. Top and bottom sides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29000" y="2971800"/>
            <a:ext cx="2286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4038480"/>
            <a:ext cx="3048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five sided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5638680"/>
            <a:ext cx="2286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990720"/>
            <a:ext cx="1214640" cy="914400"/>
          </a:xfrm>
          <a:prstGeom prst="parallelogram">
            <a:avLst>
              <a:gd name="adj" fmla="val 332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3809880"/>
            <a:ext cx="685800" cy="1143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4572000"/>
            <a:ext cx="1219320" cy="9907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0" y="914400"/>
            <a:ext cx="1143000" cy="990720"/>
          </a:xfrm>
          <a:prstGeom prst="hexagon">
            <a:avLst>
              <a:gd name="adj" fmla="val 2884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581280" y="2209680"/>
            <a:ext cx="1981440" cy="457200"/>
          </a:xfrm>
          <a:custGeom>
            <a:avLst/>
            <a:gdLst>
              <a:gd name="textAreaLeft" fmla="*/ 435600 w 1981440"/>
              <a:gd name="textAreaRight" fmla="*/ 1545840 w 1981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250" autoRev="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3" dur="250" autoRev="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250" autoRev="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59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0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9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250" autoRev="1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81" dur="250" autoRev="1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2" dur="250" autoRev="1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250" autoRev="1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4" dur="250" autoRev="1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5" dur="250" autoRev="1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5" dur="25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26" dur="25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7" dur="250" autoRev="1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4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4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8" dur="250" autoRev="1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49" dur="250" autoRev="1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0" dur="250" autoRev="1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0880" y="685800"/>
            <a:ext cx="845820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ten sided polyg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525780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ecag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64008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ul.ie/~cahird/polyhedronmode/decago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1981080"/>
            <a:ext cx="7315200" cy="3200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2286000"/>
            <a:ext cx="25146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3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4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5" dur="25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ine with two end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43000" y="6308640"/>
            <a:ext cx="6705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inkmonkey.com/studyguides/subjects/geometry/chap1/g0101201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62120" y="1447920"/>
            <a:ext cx="7467480" cy="3352680"/>
            <a:chOff x="762120" y="1447920"/>
            <a:chExt cx="7467480" cy="3352680"/>
          </a:xfrm>
        </p:grpSpPr>
        <p:sp>
          <p:nvSpPr>
            <p:cNvPr id="393" name=""/>
            <p:cNvSpPr/>
            <p:nvPr/>
          </p:nvSpPr>
          <p:spPr>
            <a:xfrm>
              <a:off x="762120" y="1447920"/>
              <a:ext cx="7467480" cy="33526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71600" y="3200400"/>
              <a:ext cx="617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66680" y="2286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2920" y="22860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0" dur="250" autoRev="1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81" dur="250" autoRev="1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2" dur="250" autoRev="1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ine with one end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43000" y="632448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league.com/help/geometry/basicterms.htm#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143000" y="1752480"/>
            <a:ext cx="7086600" cy="3200400"/>
            <a:chOff x="1143000" y="1752480"/>
            <a:chExt cx="7086600" cy="3200400"/>
          </a:xfrm>
        </p:grpSpPr>
        <p:sp>
          <p:nvSpPr>
            <p:cNvPr id="401" name=""/>
            <p:cNvSpPr/>
            <p:nvPr/>
          </p:nvSpPr>
          <p:spPr>
            <a:xfrm>
              <a:off x="1143000" y="1752480"/>
              <a:ext cx="7086600" cy="3200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86000" y="3200400"/>
              <a:ext cx="4876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9" dur="25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00" dur="25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1" dur="250" autoRev="1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int at which two rays m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632448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athworld.wolfram.com/VertexAng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143000" y="1752480"/>
            <a:ext cx="7086600" cy="3200400"/>
            <a:chOff x="1143000" y="1752480"/>
            <a:chExt cx="7086600" cy="3200400"/>
          </a:xfrm>
        </p:grpSpPr>
        <p:grpSp>
          <p:nvGrpSpPr>
            <p:cNvPr id="407" name=""/>
            <p:cNvGrpSpPr/>
            <p:nvPr/>
          </p:nvGrpSpPr>
          <p:grpSpPr>
            <a:xfrm>
              <a:off x="1143000" y="1752480"/>
              <a:ext cx="7086600" cy="3200400"/>
              <a:chOff x="1143000" y="1752480"/>
              <a:chExt cx="7086600" cy="3200400"/>
            </a:xfrm>
          </p:grpSpPr>
          <p:sp>
            <p:nvSpPr>
              <p:cNvPr id="408" name=""/>
              <p:cNvSpPr/>
              <p:nvPr/>
            </p:nvSpPr>
            <p:spPr>
              <a:xfrm>
                <a:off x="1143000" y="1752480"/>
                <a:ext cx="7086600" cy="3200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429000" y="1981080"/>
                <a:ext cx="2362320" cy="25146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2057400" y="3048120"/>
              <a:ext cx="1295280" cy="129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867280" y="1828800"/>
            <a:ext cx="2514600" cy="2226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triangle contains 3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er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6" dur="250" autoRev="1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17" dur="250" autoRev="1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8" dur="250" autoRev="1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rays that meet at a vert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6324480"/>
            <a:ext cx="7620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idport.com/Grade5/Math/MeasureGeo/MeasuringAngle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066680" y="1752480"/>
            <a:ext cx="7086600" cy="3200400"/>
            <a:chOff x="1066680" y="1752480"/>
            <a:chExt cx="7086600" cy="3200400"/>
          </a:xfrm>
        </p:grpSpPr>
        <p:sp>
          <p:nvSpPr>
            <p:cNvPr id="416" name=""/>
            <p:cNvSpPr/>
            <p:nvPr/>
          </p:nvSpPr>
          <p:spPr>
            <a:xfrm>
              <a:off x="1066680" y="1752480"/>
              <a:ext cx="7086600" cy="3200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04960" y="4190760"/>
              <a:ext cx="2514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504960" y="2361960"/>
              <a:ext cx="2057400" cy="1828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6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7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8" dur="250" autoRev="1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828800" y="304920"/>
            <a:ext cx="6019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inear Measurem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43434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2743200"/>
            <a:ext cx="68580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541008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measurement of the longest side of a fig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2286000"/>
            <a:ext cx="6705360" cy="304920"/>
          </a:xfrm>
          <a:prstGeom prst="leftRightArrow">
            <a:avLst>
              <a:gd name="adj1" fmla="val 50000"/>
              <a:gd name="adj2" fmla="val 43777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429000" y="1295280"/>
            <a:ext cx="2819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ngt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  <p:sndAc>
      <p:stSnd>
        <p:snd r:embed="rId2" name="CAMERA.WAV"/>
      </p:stSnd>
    </p:sndAc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wit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22860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sition of a single digit in a whole number or decimal number containing one or more digit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39424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ace Val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467400"/>
            <a:ext cx="8001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rsbogucki.com/aemes/resource/apps/placeval/placeva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362320"/>
            <a:ext cx="7239240" cy="3124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45,305.79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295280" y="472356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057400" y="2514600"/>
            <a:ext cx="1295280" cy="914040"/>
            <a:chOff x="2057400" y="2514600"/>
            <a:chExt cx="1295280" cy="914040"/>
          </a:xfrm>
        </p:grpSpPr>
        <p:sp>
          <p:nvSpPr>
            <p:cNvPr id="70" name=""/>
            <p:cNvSpPr/>
            <p:nvPr/>
          </p:nvSpPr>
          <p:spPr>
            <a:xfrm flipV="1">
              <a:off x="2590920" y="3123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57400" y="2514600"/>
              <a:ext cx="12952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n- thous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648320" y="2514600"/>
            <a:ext cx="1295280" cy="914400"/>
            <a:chOff x="4648320" y="2514600"/>
            <a:chExt cx="1295280" cy="914400"/>
          </a:xfrm>
        </p:grpSpPr>
        <p:sp>
          <p:nvSpPr>
            <p:cNvPr id="73" name=""/>
            <p:cNvSpPr/>
            <p:nvPr/>
          </p:nvSpPr>
          <p:spPr>
            <a:xfrm flipV="1">
              <a:off x="5257800" y="2895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8320" y="2514600"/>
              <a:ext cx="1295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666880" y="4495320"/>
            <a:ext cx="1295640" cy="749880"/>
            <a:chOff x="2666880" y="4495320"/>
            <a:chExt cx="1295640" cy="749880"/>
          </a:xfrm>
        </p:grpSpPr>
        <p:sp>
          <p:nvSpPr>
            <p:cNvPr id="76" name=""/>
            <p:cNvSpPr/>
            <p:nvPr/>
          </p:nvSpPr>
          <p:spPr>
            <a:xfrm flipV="1">
              <a:off x="3048120" y="449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66880" y="4876920"/>
              <a:ext cx="12956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ous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429000" y="2514600"/>
            <a:ext cx="1295280" cy="914400"/>
            <a:chOff x="3429000" y="2514600"/>
            <a:chExt cx="1295280" cy="914400"/>
          </a:xfrm>
        </p:grpSpPr>
        <p:sp>
          <p:nvSpPr>
            <p:cNvPr id="79" name=""/>
            <p:cNvSpPr/>
            <p:nvPr/>
          </p:nvSpPr>
          <p:spPr>
            <a:xfrm flipV="1">
              <a:off x="4038480" y="2895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29000" y="2514600"/>
              <a:ext cx="1295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undr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267080" y="4495320"/>
            <a:ext cx="1295640" cy="749880"/>
            <a:chOff x="4267080" y="4495320"/>
            <a:chExt cx="1295640" cy="749880"/>
          </a:xfrm>
        </p:grpSpPr>
        <p:sp>
          <p:nvSpPr>
            <p:cNvPr id="82" name=""/>
            <p:cNvSpPr/>
            <p:nvPr/>
          </p:nvSpPr>
          <p:spPr>
            <a:xfrm flipV="1">
              <a:off x="4648320" y="449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67080" y="4876920"/>
              <a:ext cx="12956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791320" y="4495320"/>
            <a:ext cx="1295280" cy="749880"/>
            <a:chOff x="5791320" y="4495320"/>
            <a:chExt cx="1295280" cy="749880"/>
          </a:xfrm>
        </p:grpSpPr>
        <p:sp>
          <p:nvSpPr>
            <p:cNvPr id="85" name=""/>
            <p:cNvSpPr/>
            <p:nvPr/>
          </p:nvSpPr>
          <p:spPr>
            <a:xfrm flipV="1">
              <a:off x="6172200" y="449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91320" y="4876920"/>
              <a:ext cx="1295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n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172200" y="2514600"/>
            <a:ext cx="1447560" cy="914400"/>
            <a:chOff x="6172200" y="2514600"/>
            <a:chExt cx="1447560" cy="914400"/>
          </a:xfrm>
        </p:grpSpPr>
        <p:sp>
          <p:nvSpPr>
            <p:cNvPr id="88" name=""/>
            <p:cNvSpPr/>
            <p:nvPr/>
          </p:nvSpPr>
          <p:spPr>
            <a:xfrm flipV="1">
              <a:off x="6853320" y="2895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72200" y="2514600"/>
              <a:ext cx="1447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undred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7162920" y="4572000"/>
            <a:ext cx="1295280" cy="749160"/>
            <a:chOff x="7162920" y="4572000"/>
            <a:chExt cx="1295280" cy="749160"/>
          </a:xfrm>
        </p:grpSpPr>
        <p:sp>
          <p:nvSpPr>
            <p:cNvPr id="91" name=""/>
            <p:cNvSpPr/>
            <p:nvPr/>
          </p:nvSpPr>
          <p:spPr>
            <a:xfrm flipV="1">
              <a:off x="7543800" y="45720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62920" y="4952880"/>
              <a:ext cx="1295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2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600200" y="380880"/>
            <a:ext cx="6019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inear Measurem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43434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2286000"/>
            <a:ext cx="68580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-419400" y="3467160"/>
            <a:ext cx="2514600" cy="304920"/>
          </a:xfrm>
          <a:prstGeom prst="leftRightArrow">
            <a:avLst>
              <a:gd name="adj1" fmla="val 50000"/>
              <a:gd name="adj2" fmla="val 16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429000" y="1295280"/>
            <a:ext cx="2514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Widt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1814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measurement of the shortest side of a fig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2" name="CAMERA.WAV"/>
      </p:stSnd>
    </p:sndAc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wit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04920" y="380880"/>
            <a:ext cx="8458200" cy="13129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easurement of all sides of a plane fig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5181480"/>
            <a:ext cx="853416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647712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unbrain.com/pol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57200" y="1981080"/>
            <a:ext cx="8001000" cy="3200400"/>
            <a:chOff x="457200" y="1981080"/>
            <a:chExt cx="8001000" cy="3200400"/>
          </a:xfrm>
        </p:grpSpPr>
        <p:grpSp>
          <p:nvGrpSpPr>
            <p:cNvPr id="435" name=""/>
            <p:cNvGrpSpPr/>
            <p:nvPr/>
          </p:nvGrpSpPr>
          <p:grpSpPr>
            <a:xfrm>
              <a:off x="457200" y="1981080"/>
              <a:ext cx="8001000" cy="3200400"/>
              <a:chOff x="457200" y="1981080"/>
              <a:chExt cx="8001000" cy="3200400"/>
            </a:xfrm>
          </p:grpSpPr>
          <p:sp>
            <p:nvSpPr>
              <p:cNvPr id="436" name=""/>
              <p:cNvSpPr/>
              <p:nvPr/>
            </p:nvSpPr>
            <p:spPr>
              <a:xfrm>
                <a:off x="457200" y="1981080"/>
                <a:ext cx="8001000" cy="3200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58880" y="228600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646000" y="457200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 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1362960" y="2133360"/>
                <a:ext cx="754560" cy="2286000"/>
                <a:chOff x="1362960" y="2133360"/>
                <a:chExt cx="754560" cy="22860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362960" y="213336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362960" y="289548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362960" y="3657600"/>
                  <a:ext cx="75456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2117520" y="2133360"/>
                <a:ext cx="754560" cy="2286000"/>
                <a:chOff x="2117520" y="2133360"/>
                <a:chExt cx="754560" cy="22860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117520" y="213336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117520" y="289548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117520" y="3657600"/>
                  <a:ext cx="75456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2872440" y="2133360"/>
                <a:ext cx="754560" cy="2286000"/>
                <a:chOff x="2872440" y="2133360"/>
                <a:chExt cx="754560" cy="22860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872440" y="213336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872440" y="289548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872440" y="3657600"/>
                  <a:ext cx="75456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3627360" y="2133360"/>
                <a:ext cx="754560" cy="2286000"/>
                <a:chOff x="3627360" y="2133360"/>
                <a:chExt cx="754560" cy="22860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3627360" y="213336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627360" y="2895480"/>
                  <a:ext cx="7545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627360" y="3657600"/>
                  <a:ext cx="75456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5" name=""/>
            <p:cNvSpPr/>
            <p:nvPr/>
          </p:nvSpPr>
          <p:spPr>
            <a:xfrm>
              <a:off x="4495680" y="2286000"/>
              <a:ext cx="3810240" cy="27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IMENSIONS of this rectangle ar 4 inches long, and 3 inches wid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o find the perimet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 + length+ width + wid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in + 4in + 3in + 3in= 12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int: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us all sides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95280" y="2133720"/>
              <a:ext cx="3124440" cy="228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453680" y="6095880"/>
            <a:ext cx="67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hodor.org/interactivate/activities/permarea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0" dur="250" autoRev="1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1" dur="250" autoRev="1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2" dur="250" autoRev="1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80880" y="152280"/>
            <a:ext cx="8458200" cy="13129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easurement of square units needed to cover a fig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4952880"/>
            <a:ext cx="853416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43000" y="626112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520" y="1600200"/>
            <a:ext cx="8076960" cy="3200400"/>
            <a:chOff x="533520" y="1600200"/>
            <a:chExt cx="8076960" cy="3200400"/>
          </a:xfrm>
        </p:grpSpPr>
        <p:grpSp>
          <p:nvGrpSpPr>
            <p:cNvPr id="462" name=""/>
            <p:cNvGrpSpPr/>
            <p:nvPr/>
          </p:nvGrpSpPr>
          <p:grpSpPr>
            <a:xfrm>
              <a:off x="533520" y="1600200"/>
              <a:ext cx="8076960" cy="3200400"/>
              <a:chOff x="533520" y="1600200"/>
              <a:chExt cx="8076960" cy="3200400"/>
            </a:xfrm>
          </p:grpSpPr>
          <p:sp>
            <p:nvSpPr>
              <p:cNvPr id="463" name=""/>
              <p:cNvSpPr/>
              <p:nvPr/>
            </p:nvSpPr>
            <p:spPr>
              <a:xfrm>
                <a:off x="533520" y="1600200"/>
                <a:ext cx="8076960" cy="3200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38080" y="190512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742840" y="419112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 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1447560" y="1752480"/>
                <a:ext cx="761760" cy="2286000"/>
                <a:chOff x="1447560" y="1752480"/>
                <a:chExt cx="761760" cy="22860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1447560" y="1752480"/>
                  <a:ext cx="7617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447560" y="2514600"/>
                  <a:ext cx="7617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447560" y="3276720"/>
                  <a:ext cx="76176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209680" y="1752480"/>
                <a:ext cx="761400" cy="2286000"/>
                <a:chOff x="2209680" y="1752480"/>
                <a:chExt cx="761400" cy="22860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209680" y="1752480"/>
                  <a:ext cx="76140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209680" y="2514600"/>
                  <a:ext cx="76140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209680" y="3276720"/>
                  <a:ext cx="76140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2971440" y="1752480"/>
                <a:ext cx="761760" cy="2286000"/>
                <a:chOff x="2971440" y="1752480"/>
                <a:chExt cx="761760" cy="228600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971440" y="1752480"/>
                  <a:ext cx="7617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971440" y="2514600"/>
                  <a:ext cx="7617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971440" y="3276720"/>
                  <a:ext cx="76176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3733560" y="1752480"/>
                <a:ext cx="761760" cy="2286000"/>
                <a:chOff x="3733560" y="1752480"/>
                <a:chExt cx="761760" cy="22860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733560" y="1752480"/>
                  <a:ext cx="7617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33560" y="2514600"/>
                  <a:ext cx="761760" cy="7621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733560" y="3276720"/>
                  <a:ext cx="761760" cy="7617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4724280" y="1676520"/>
              <a:ext cx="3581640" cy="30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ngth X Width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in X 4in = 12 square inch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1295280" y="57913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hodor.org/interactivate/activities/perm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tudyzone.org/testprep/math4/d/metricunit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studyzone.org/testprep/math4/d/customaryunit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9" dur="25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90" dur="25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1" dur="250" autoRev="1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380880" y="533520"/>
            <a:ext cx="84582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s used to measure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920" y="4952880"/>
            <a:ext cx="853416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quare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626112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95280" y="57913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hodor.org/interactivate/activities/perm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tudyzone.org/testprep/math4/d/metricunit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studyzone.org/testprep/math4/d/customaryunit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33520" y="1600200"/>
            <a:ext cx="8076960" cy="3200400"/>
            <a:chOff x="533520" y="1600200"/>
            <a:chExt cx="8076960" cy="3200400"/>
          </a:xfrm>
        </p:grpSpPr>
        <p:grpSp>
          <p:nvGrpSpPr>
            <p:cNvPr id="489" name=""/>
            <p:cNvGrpSpPr/>
            <p:nvPr/>
          </p:nvGrpSpPr>
          <p:grpSpPr>
            <a:xfrm>
              <a:off x="533520" y="1600200"/>
              <a:ext cx="8076960" cy="3200400"/>
              <a:chOff x="533520" y="1600200"/>
              <a:chExt cx="8076960" cy="3200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533520" y="1600200"/>
                <a:ext cx="8076960" cy="3200400"/>
                <a:chOff x="533520" y="1600200"/>
                <a:chExt cx="8076960" cy="320040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533520" y="1600200"/>
                  <a:ext cx="8076960" cy="3200400"/>
                  <a:chOff x="533520" y="1600200"/>
                  <a:chExt cx="8076960" cy="320040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533520" y="1600200"/>
                    <a:ext cx="8076960" cy="320040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838080" y="1905120"/>
                    <a:ext cx="68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 i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742840" y="4191120"/>
                    <a:ext cx="68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 i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1447560" y="1752480"/>
                    <a:ext cx="761760" cy="2286000"/>
                    <a:chOff x="1447560" y="1752480"/>
                    <a:chExt cx="761760" cy="228600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1447560" y="1752480"/>
                      <a:ext cx="76176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1447560" y="2514600"/>
                      <a:ext cx="76176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1447560" y="3276720"/>
                      <a:ext cx="761760" cy="76176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2209680" y="1752480"/>
                    <a:ext cx="761400" cy="2286000"/>
                    <a:chOff x="2209680" y="1752480"/>
                    <a:chExt cx="761400" cy="228600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2209680" y="1752480"/>
                      <a:ext cx="76140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2209680" y="2514600"/>
                      <a:ext cx="76140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2209680" y="3276720"/>
                      <a:ext cx="761400" cy="76176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2971440" y="1752480"/>
                    <a:ext cx="761760" cy="2286000"/>
                    <a:chOff x="2971440" y="1752480"/>
                    <a:chExt cx="761760" cy="228600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2971440" y="1752480"/>
                      <a:ext cx="76176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2971440" y="2514600"/>
                      <a:ext cx="76176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2971440" y="3276720"/>
                      <a:ext cx="761760" cy="76176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3733560" y="1752480"/>
                    <a:ext cx="761760" cy="2286000"/>
                    <a:chOff x="3733560" y="1752480"/>
                    <a:chExt cx="761760" cy="228600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3733560" y="1752480"/>
                      <a:ext cx="76176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3733560" y="2514600"/>
                      <a:ext cx="761760" cy="76212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3733560" y="3276720"/>
                      <a:ext cx="761760" cy="761760"/>
                    </a:xfrm>
                    <a:prstGeom prst="rect">
                      <a:avLst/>
                    </a:prstGeom>
                    <a:solidFill>
                      <a:srgbClr val="9933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11" name=""/>
                <p:cNvSpPr/>
                <p:nvPr/>
              </p:nvSpPr>
              <p:spPr>
                <a:xfrm>
                  <a:off x="4724280" y="1676520"/>
                  <a:ext cx="3581640" cy="305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Length X Width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in X 4in = 12 square inche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5486400" y="3809880"/>
                <a:ext cx="2209680" cy="6426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ach of these is a square uni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 flipH="1" flipV="1">
              <a:off x="4266720" y="3733920"/>
              <a:ext cx="1295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50" autoRev="1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02" dur="250" autoRev="1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3" dur="250" autoRev="1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124080" y="838080"/>
            <a:ext cx="317340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al 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04920" y="30492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air of numbers that gives the coordinates of a point on a gr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181480"/>
            <a:ext cx="853416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rdered Pa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66680" y="6078600"/>
            <a:ext cx="65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cats.com/crafts/gri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tudyzone.org/testprep/math4/d/orderpairp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33520" y="1600200"/>
            <a:ext cx="8076960" cy="3581280"/>
            <a:chOff x="533520" y="1600200"/>
            <a:chExt cx="8076960" cy="3581280"/>
          </a:xfrm>
        </p:grpSpPr>
        <p:sp>
          <p:nvSpPr>
            <p:cNvPr id="519" name=""/>
            <p:cNvSpPr/>
            <p:nvPr/>
          </p:nvSpPr>
          <p:spPr>
            <a:xfrm>
              <a:off x="533520" y="1600200"/>
              <a:ext cx="8076960" cy="358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895480" y="2209680"/>
              <a:ext cx="3123000" cy="2361600"/>
              <a:chOff x="2895480" y="2209680"/>
              <a:chExt cx="3123000" cy="23616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2895480" y="2209680"/>
                <a:ext cx="780480" cy="2361600"/>
                <a:chOff x="2895480" y="2209680"/>
                <a:chExt cx="780480" cy="236160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895480" y="2209680"/>
                  <a:ext cx="78048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895480" y="2997000"/>
                  <a:ext cx="78048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5480" y="3784320"/>
                  <a:ext cx="780480" cy="7869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676320" y="2209680"/>
                <a:ext cx="780120" cy="2361600"/>
                <a:chOff x="3676320" y="2209680"/>
                <a:chExt cx="780120" cy="23616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676320" y="2209680"/>
                  <a:ext cx="78012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676320" y="2997000"/>
                  <a:ext cx="78012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676320" y="3784320"/>
                  <a:ext cx="780120" cy="7869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456800" y="2209680"/>
                <a:ext cx="780480" cy="2361600"/>
                <a:chOff x="4456800" y="2209680"/>
                <a:chExt cx="780480" cy="236160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456800" y="2209680"/>
                  <a:ext cx="78048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456800" y="2997000"/>
                  <a:ext cx="78048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456800" y="3784320"/>
                  <a:ext cx="780480" cy="7869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5238000" y="2209680"/>
                <a:ext cx="780480" cy="2361600"/>
                <a:chOff x="5238000" y="2209680"/>
                <a:chExt cx="780480" cy="23616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5238000" y="2209680"/>
                  <a:ext cx="78048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238000" y="2997000"/>
                  <a:ext cx="780480" cy="78732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238000" y="3784320"/>
                  <a:ext cx="780480" cy="78696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7" name=""/>
            <p:cNvSpPr/>
            <p:nvPr/>
          </p:nvSpPr>
          <p:spPr>
            <a:xfrm>
              <a:off x="2742840" y="464832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       1           2          3         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0560" y="2057400"/>
              <a:ext cx="533160" cy="18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04960" y="2895480"/>
              <a:ext cx="3045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53080" y="2819520"/>
              <a:ext cx="1599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(1,2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250" autoRev="1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25" dur="250" autoRev="1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6" dur="250" autoRev="1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04920" y="5334120"/>
            <a:ext cx="883908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 Grid/ X-Y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62164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hodor.org/interactivate/activities/coords2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304920"/>
            <a:ext cx="815364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d to find coordinates for ordered pairs for the X and y ax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04920" y="1600200"/>
            <a:ext cx="8534160" cy="3787920"/>
            <a:chOff x="304920" y="1600200"/>
            <a:chExt cx="8534160" cy="3787920"/>
          </a:xfrm>
        </p:grpSpPr>
        <p:sp>
          <p:nvSpPr>
            <p:cNvPr id="545" name=""/>
            <p:cNvSpPr/>
            <p:nvPr/>
          </p:nvSpPr>
          <p:spPr>
            <a:xfrm>
              <a:off x="304920" y="1600200"/>
              <a:ext cx="8534160" cy="3733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3"/>
            <a:stretch/>
          </p:blipFill>
          <p:spPr>
            <a:xfrm>
              <a:off x="2514600" y="1676520"/>
              <a:ext cx="4648320" cy="371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3" dur="250" autoRev="1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44" dur="250" autoRev="1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250" autoRev="1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04920" y="5334120"/>
            <a:ext cx="883908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d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304920"/>
            <a:ext cx="815364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 quarter of a plane divided by an X and Y ax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4920" y="1600200"/>
            <a:ext cx="8534160" cy="3733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5029200" cy="35208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2286000" y="1752480"/>
            <a:ext cx="198108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38080" y="2438280"/>
            <a:ext cx="1067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514600" y="2362320"/>
            <a:ext cx="3505320" cy="1904760"/>
            <a:chOff x="2514600" y="2362320"/>
            <a:chExt cx="3505320" cy="1904760"/>
          </a:xfrm>
        </p:grpSpPr>
        <p:sp>
          <p:nvSpPr>
            <p:cNvPr id="554" name=""/>
            <p:cNvSpPr/>
            <p:nvPr/>
          </p:nvSpPr>
          <p:spPr>
            <a:xfrm>
              <a:off x="2514600" y="2362320"/>
              <a:ext cx="1523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514600" y="3962520"/>
              <a:ext cx="1523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19720" y="3962520"/>
              <a:ext cx="152388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95680" y="2438280"/>
              <a:ext cx="152424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7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78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9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path" presetID="2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 0.00801 0.011 0.01468 0.015 0.02269 C 0.02 0.01468 0.024 0.00801 0.03 0 C 0.065 -0.04672 0.107 -0.06674 0.124 -0.04539 C 0.14 -0.02269 0.125 0.03337 0.09 0.08009 C 0.084 0.08677 0.079 0.09344 0.073 0.10012 C 0.079 0.10546 0.084 0.11213 0.09 0.12014 C 0.125 0.16686 0.14 0.22292 0.124 0.24428 C 0.107 0.26698 0.065 0.24695 0.03 0.20023 C 0.024 0.19222 0.02 0.18555 0.015 0.17754 C 0.011 0.18555 0.006 0.19222 0 0.20023 C -0.035 0.24695 -0.077 0.26698 -0.094 0.24428 C -0.11 0.22292 -0.095 0.16686 -0.06 0.12014 C -0.054 0.11213 -0.049 0.10546 -0.043 0.10012 C -0.049 0.09344 -0.054 0.08677 -0.06 0.08009 C -0.095 0.03337 -0.11 -0.02269 -0.094 -0.04539 C -0.077 -0.06674 -0.035 -0.04672 0 0 Z">
                                      <p:cBhvr>
                                        <p:cTn id="1181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4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04920" y="38088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ine joining two non-adjacent vertices of a polyg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agon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6324480"/>
            <a:ext cx="822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homeschoolmath.net/teaching/g/parallel_and_perpendicular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143000" y="2362320"/>
            <a:ext cx="7086600" cy="2438280"/>
            <a:chOff x="1143000" y="2362320"/>
            <a:chExt cx="7086600" cy="2438280"/>
          </a:xfrm>
        </p:grpSpPr>
        <p:sp>
          <p:nvSpPr>
            <p:cNvPr id="562" name=""/>
            <p:cNvSpPr/>
            <p:nvPr/>
          </p:nvSpPr>
          <p:spPr>
            <a:xfrm>
              <a:off x="1143000" y="2362320"/>
              <a:ext cx="7086600" cy="243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" descr=""/>
            <p:cNvPicPr/>
            <p:nvPr/>
          </p:nvPicPr>
          <p:blipFill>
            <a:blip r:embed="rId3"/>
            <a:stretch/>
          </p:blipFill>
          <p:spPr>
            <a:xfrm>
              <a:off x="1600200" y="2819520"/>
              <a:ext cx="1344600" cy="14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4"/>
            <a:stretch/>
          </p:blipFill>
          <p:spPr>
            <a:xfrm>
              <a:off x="5867280" y="2743200"/>
              <a:ext cx="205740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5"/>
            <a:stretch/>
          </p:blipFill>
          <p:spPr>
            <a:xfrm>
              <a:off x="3505320" y="2666880"/>
              <a:ext cx="2057400" cy="190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9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8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1" dur="250" autoRev="1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02" dur="250" autoRev="1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3" dur="250" autoRev="1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30492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lines cross over one an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ters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09480" y="6324480"/>
            <a:ext cx="822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homeschoolmath.net/teaching/g/parallel_and_perpendicular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1447920"/>
            <a:ext cx="7162920" cy="3352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3048120" y="1905120"/>
            <a:ext cx="32763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4" dur="250" autoRev="1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5" dur="250" autoRev="1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6" dur="250" autoRev="1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s which show base 10 number val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525780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ase Ten Bloc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40080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rcytech.org/java/b10blocks/b10block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523880"/>
            <a:ext cx="8001000" cy="365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981080" y="1600200"/>
            <a:ext cx="57913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04920" y="38088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perpendicular lines which form a 90 degree 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04920" y="510552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19320" y="6172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snet.net/shape/category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838080" y="2057400"/>
            <a:ext cx="6934320" cy="2590560"/>
            <a:chOff x="838080" y="2057400"/>
            <a:chExt cx="6934320" cy="2590560"/>
          </a:xfrm>
        </p:grpSpPr>
        <p:grpSp>
          <p:nvGrpSpPr>
            <p:cNvPr id="575" name=""/>
            <p:cNvGrpSpPr/>
            <p:nvPr/>
          </p:nvGrpSpPr>
          <p:grpSpPr>
            <a:xfrm>
              <a:off x="838080" y="2057400"/>
              <a:ext cx="6934320" cy="2590560"/>
              <a:chOff x="838080" y="2057400"/>
              <a:chExt cx="6934320" cy="2590560"/>
            </a:xfrm>
          </p:grpSpPr>
          <p:sp>
            <p:nvSpPr>
              <p:cNvPr id="576" name=""/>
              <p:cNvSpPr/>
              <p:nvPr/>
            </p:nvSpPr>
            <p:spPr>
              <a:xfrm>
                <a:off x="838080" y="2057400"/>
                <a:ext cx="6934320" cy="2590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9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7" name=""/>
              <p:cNvGrpSpPr/>
              <p:nvPr/>
            </p:nvGrpSpPr>
            <p:grpSpPr>
              <a:xfrm>
                <a:off x="3505320" y="2438280"/>
                <a:ext cx="1980720" cy="1904760"/>
                <a:chOff x="3505320" y="2438280"/>
                <a:chExt cx="1980720" cy="19047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3505320" y="2438280"/>
                  <a:ext cx="1980720" cy="1904760"/>
                </a:xfrm>
                <a:prstGeom prst="rtTriangl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505320" y="3889800"/>
                  <a:ext cx="582480" cy="4532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0" name=""/>
            <p:cNvSpPr/>
            <p:nvPr/>
          </p:nvSpPr>
          <p:spPr>
            <a:xfrm>
              <a:off x="1981080" y="4267080"/>
              <a:ext cx="129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6" dur="250" autoRev="1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7" dur="250" autoRev="1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250" autoRev="1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04920" y="380880"/>
            <a:ext cx="8458200" cy="1922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lines,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qual distanc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art that will never touch or intersect;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-intersecting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143000" y="2286000"/>
            <a:ext cx="7086600" cy="2514600"/>
            <a:chOff x="1143000" y="2286000"/>
            <a:chExt cx="7086600" cy="2514600"/>
          </a:xfrm>
        </p:grpSpPr>
        <p:sp>
          <p:nvSpPr>
            <p:cNvPr id="584" name=""/>
            <p:cNvSpPr/>
            <p:nvPr/>
          </p:nvSpPr>
          <p:spPr>
            <a:xfrm>
              <a:off x="1143000" y="2286000"/>
              <a:ext cx="7086600" cy="2514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57400" y="3124080"/>
              <a:ext cx="548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057400" y="3897720"/>
              <a:ext cx="5486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09480" y="6324480"/>
            <a:ext cx="822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homeschoolmath.net/teaching/g/parallel_and_perpendicular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250" autoRev="1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46" dur="250" autoRev="1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7" dur="250" autoRev="1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304920" y="38088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s that intersect at right angles to each 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510552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pendicular L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9480" y="6324480"/>
            <a:ext cx="822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homeschoolmath.net/teaching/g/parallel_and_perpendicular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43000" y="1828800"/>
            <a:ext cx="7086600" cy="2971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2209680" y="2438280"/>
            <a:ext cx="53262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9" dur="250" autoRev="1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0" dur="250" autoRev="1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1" dur="250" autoRev="1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04920" y="533520"/>
            <a:ext cx="845820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y 2-dimensional (flat) ar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90720" y="4800600"/>
            <a:ext cx="72388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90720" y="1752480"/>
            <a:ext cx="7315200" cy="2819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2357280" y="1936800"/>
            <a:ext cx="41198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1" dur="250" autoRev="1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72" dur="250" autoRev="1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3" dur="250" autoRev="1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04920" y="533520"/>
            <a:ext cx="845820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change in position or s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990720" y="4800600"/>
            <a:ext cx="72388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624852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arcourtschool.com/activity/icy_slides_flips_tur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1752480"/>
            <a:ext cx="7315200" cy="2819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1676520" y="1981080"/>
            <a:ext cx="61722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3" dur="250" autoRev="1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4" dur="250" autoRev="1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85" dur="250" autoRev="1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04920" y="533520"/>
            <a:ext cx="845820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mirror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4724280"/>
            <a:ext cx="72388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1447920"/>
            <a:ext cx="7696080" cy="3504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6324480" cy="16351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600560" y="6045120"/>
            <a:ext cx="5916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egentsprep.org/Regents/Math/reflect/PracRef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14400" y="1600200"/>
            <a:ext cx="1752480" cy="785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-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19320" y="22860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095880" y="1676520"/>
            <a:ext cx="1752840" cy="785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f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6172200" y="2438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98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9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04920" y="380880"/>
            <a:ext cx="8458200" cy="1556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Move or shif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 item in any direction without rotating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4952880"/>
            <a:ext cx="723888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ranslatio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2133720"/>
            <a:ext cx="7696080" cy="281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2286000" y="2649600"/>
            <a:ext cx="4800600" cy="12636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3124080" y="4267080"/>
            <a:ext cx="27432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lso called a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679760" y="6172200"/>
            <a:ext cx="58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egentsprep.org/Regents/Math/trans/PracTra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0" dur="250" autoRev="1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11" dur="250" autoRev="1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2" dur="250" autoRev="1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04920" y="380880"/>
            <a:ext cx="8458200" cy="1556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turn an object, usually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90 degrees or 180 degre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90720" y="4952880"/>
            <a:ext cx="72388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otatio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2133720"/>
            <a:ext cx="7696080" cy="2819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1447920" y="2971800"/>
            <a:ext cx="1535040" cy="7826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1535040" cy="7826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4267080" y="2286000"/>
            <a:ext cx="782640" cy="153504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1523880" y="3886200"/>
            <a:ext cx="15242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43600" y="3962520"/>
            <a:ext cx="2133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turn- 180 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886200" y="3962520"/>
            <a:ext cx="152388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 turn- 90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93000" y="6429240"/>
            <a:ext cx="803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utc.edu/Faculty/Christopher-Mawata/transformations/rotations/lesson1c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451160" y="6064200"/>
            <a:ext cx="58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regentsprep.org/Regents/Math/rotate/PracRo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3" dur="250" autoRev="1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24" dur="250" autoRev="1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250" autoRev="1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04920" y="449568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unter Clockwi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0880" y="38088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ame direction as the way hands on the clock 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04920" y="167652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lockwi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143000" y="579132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0880" y="5410080"/>
            <a:ext cx="845820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pposite direction of the way the hands on the clock 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3581280" y="2639880"/>
            <a:ext cx="2362320" cy="18813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7391520" y="1066680"/>
            <a:ext cx="1019160" cy="121932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12193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276720" y="990720"/>
            <a:ext cx="2936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al 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s which show base 10 number valu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5257800"/>
            <a:ext cx="853452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undred Boa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6400800"/>
            <a:ext cx="8077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mblesideprimary.com/ambleweb/mentalmaths/interactivenumbergrid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523880"/>
            <a:ext cx="8001000" cy="3657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124080" y="1762200"/>
            <a:ext cx="32385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04920" y="457200"/>
            <a:ext cx="8534160" cy="703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d to collect and organiz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5560" y="6537240"/>
            <a:ext cx="62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udyzone.org/testprep/math4/d/collectdata4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04920" y="533412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" y="3886200"/>
            <a:ext cx="1676520" cy="703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867280" y="5181480"/>
            <a:ext cx="2286000" cy="7034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 flipV="1">
            <a:off x="5715000" y="47239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05740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2590920" y="1905120"/>
            <a:ext cx="56386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74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7" dur="250" autoRev="1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78" dur="250" autoRev="1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9" dur="250" autoRev="1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7" dur="250" autoRev="1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8" dur="250" autoRev="1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89" dur="250" autoRev="1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09480" y="838080"/>
            <a:ext cx="815364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umber of times an event occurs; may use tally marks to re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4920" y="4495680"/>
            <a:ext cx="853416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914400" y="2971800"/>
            <a:ext cx="7467480" cy="825120"/>
            <a:chOff x="914400" y="2971800"/>
            <a:chExt cx="7467480" cy="825120"/>
          </a:xfrm>
        </p:grpSpPr>
        <p:sp>
          <p:nvSpPr>
            <p:cNvPr id="648" name=""/>
            <p:cNvSpPr/>
            <p:nvPr/>
          </p:nvSpPr>
          <p:spPr>
            <a:xfrm>
              <a:off x="914400" y="2971800"/>
              <a:ext cx="7467480" cy="82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IIII  IIII  III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52680" y="3200400"/>
              <a:ext cx="5335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43400" y="3200400"/>
              <a:ext cx="5335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10080" y="327672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1295280" y="259092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2362320"/>
            <a:ext cx="19051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a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45960" y="6095880"/>
            <a:ext cx="67078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studyzone.org/testprep/math4/d/tablestally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6" dur="250" autoRev="1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7" dur="250" autoRev="1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08" dur="250" autoRev="1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57200" y="304920"/>
            <a:ext cx="8153280" cy="1739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diagram using circles or other shapes to show the relationship between 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04920" y="4937040"/>
            <a:ext cx="84582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nn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33520" y="1981080"/>
            <a:ext cx="8076960" cy="3049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38080" y="6019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hodor.org/interactivate/activities/venndia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2895480" y="2133720"/>
            <a:ext cx="3805200" cy="24382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990720" y="2286000"/>
            <a:ext cx="1523880" cy="202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s the rule for this Ven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1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4" dur="250" autoRev="1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5" dur="250" autoRev="1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36" dur="250" autoRev="1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57200" y="304920"/>
            <a:ext cx="8153280" cy="1739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horizontal number line on which each value of a set is denoted by an “x” over a valu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" y="5181480"/>
            <a:ext cx="84582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ne Pl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57200" y="2160720"/>
            <a:ext cx="8077320" cy="3049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762120" y="2819520"/>
            <a:ext cx="7315200" cy="17827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6095880" y="26668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715000" y="2438280"/>
            <a:ext cx="2590920" cy="1191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x’s indicates how many times each score 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32400" y="6491160"/>
            <a:ext cx="565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tudyzone.org/testprep/math4/d/range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7" dur="250" autoRev="1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58" dur="250" autoRev="1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59" dur="250" autoRev="1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457200" y="304920"/>
            <a:ext cx="815328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raph that uses pictures to represent da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04920" y="4784760"/>
            <a:ext cx="84582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ictograp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3520" y="1752480"/>
            <a:ext cx="8076960" cy="3049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324480" y="1981080"/>
            <a:ext cx="12956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2895480" y="1752480"/>
            <a:ext cx="3353040" cy="2978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H="1" flipV="1">
            <a:off x="4038120" y="1904760"/>
            <a:ext cx="2590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0400" y="6445080"/>
            <a:ext cx="75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swego.org/ocsd-web/quiz/mquiz.asp?filename=ccarroll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80840" y="5867280"/>
            <a:ext cx="60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tudyzone.org/testprep/math4/d/graphdata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143000" y="1981080"/>
            <a:ext cx="1447920" cy="368280"/>
          </a:xfrm>
          <a:prstGeom prst="rect">
            <a:avLst/>
          </a:prstGeom>
          <a:solidFill>
            <a:srgbClr val="9933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2590920" y="20574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1" dur="250" autoRev="1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2" dur="250" autoRev="1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3" dur="250" autoRev="1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04920" y="380880"/>
            <a:ext cx="8458200" cy="9471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used to compare facts about groups and numbers that can be cou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04920" y="525780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r Grap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43000" y="640080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cwdn.org/Graphs/BarGrap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457200" y="1447920"/>
            <a:ext cx="8077320" cy="3581280"/>
            <a:chOff x="457200" y="1447920"/>
            <a:chExt cx="8077320" cy="3581280"/>
          </a:xfrm>
        </p:grpSpPr>
        <p:grpSp>
          <p:nvGrpSpPr>
            <p:cNvPr id="682" name=""/>
            <p:cNvGrpSpPr/>
            <p:nvPr/>
          </p:nvGrpSpPr>
          <p:grpSpPr>
            <a:xfrm>
              <a:off x="457200" y="1447920"/>
              <a:ext cx="8077320" cy="3581280"/>
              <a:chOff x="457200" y="1447920"/>
              <a:chExt cx="8077320" cy="3581280"/>
            </a:xfrm>
          </p:grpSpPr>
          <p:sp>
            <p:nvSpPr>
              <p:cNvPr id="683" name=""/>
              <p:cNvSpPr/>
              <p:nvPr/>
            </p:nvSpPr>
            <p:spPr>
              <a:xfrm>
                <a:off x="457200" y="1447920"/>
                <a:ext cx="8077320" cy="35812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4" name="" descr="Bar Graph"/>
              <p:cNvPicPr/>
              <p:nvPr/>
            </p:nvPicPr>
            <p:blipFill>
              <a:blip r:embed="rId3"/>
              <a:stretch/>
            </p:blipFill>
            <p:spPr>
              <a:xfrm>
                <a:off x="2514600" y="1600200"/>
                <a:ext cx="4038480" cy="322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5" name=""/>
            <p:cNvSpPr/>
            <p:nvPr/>
          </p:nvSpPr>
          <p:spPr>
            <a:xfrm>
              <a:off x="6705720" y="2209680"/>
              <a:ext cx="144756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38080" y="2133720"/>
              <a:ext cx="14479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81680" y="4343400"/>
              <a:ext cx="14479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2209680" y="228564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4724280" y="1980720"/>
              <a:ext cx="19051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6248520" y="434304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77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4" dur="770" fill="hold"/>
                                        <p:tgtEl>
                                          <p:spTgt spid="6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6" dur="77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8" dur="77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2" dur="250" autoRev="1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3" dur="250" autoRev="1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4" dur="250" autoRev="1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457200" y="304920"/>
            <a:ext cx="8153280" cy="13737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aph is similar to a regular bar graph, but it gives 2 pieces of information for each item , rather than just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04920" y="5257800"/>
            <a:ext cx="84582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62120" y="1676520"/>
            <a:ext cx="7467480" cy="3504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4724280" cy="26589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2362320" y="1752480"/>
            <a:ext cx="44956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uit Sold at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391520" y="2971800"/>
            <a:ext cx="1447560" cy="368280"/>
          </a:xfrm>
          <a:prstGeom prst="rect">
            <a:avLst/>
          </a:prstGeom>
          <a:solidFill>
            <a:srgbClr val="9933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752480"/>
            <a:ext cx="1447920" cy="368280"/>
          </a:xfrm>
          <a:prstGeom prst="rect">
            <a:avLst/>
          </a:prstGeom>
          <a:solidFill>
            <a:srgbClr val="9933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1905120" y="1904760"/>
            <a:ext cx="1143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14400" y="3505320"/>
            <a:ext cx="1447920" cy="368280"/>
          </a:xfrm>
          <a:prstGeom prst="rect">
            <a:avLst/>
          </a:prstGeom>
          <a:solidFill>
            <a:srgbClr val="9933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2133720" y="31240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6019560" y="3048120"/>
            <a:ext cx="14475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061720" y="6369120"/>
            <a:ext cx="49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athleague.com/help/data/dat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7" dur="250" autoRev="1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18" dur="250" autoRev="1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250" autoRev="1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457200" y="1447920"/>
            <a:ext cx="8077320" cy="6231960"/>
            <a:chOff x="457200" y="1447920"/>
            <a:chExt cx="8077320" cy="6231960"/>
          </a:xfrm>
        </p:grpSpPr>
        <p:sp>
          <p:nvSpPr>
            <p:cNvPr id="704" name=""/>
            <p:cNvSpPr/>
            <p:nvPr/>
          </p:nvSpPr>
          <p:spPr>
            <a:xfrm>
              <a:off x="1143000" y="6477120"/>
              <a:ext cx="65530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http://www.mcwdn.org/Graphs/LineGraph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457200" y="1447920"/>
              <a:ext cx="8077320" cy="3581280"/>
              <a:chOff x="457200" y="1447920"/>
              <a:chExt cx="8077320" cy="3581280"/>
            </a:xfrm>
          </p:grpSpPr>
          <p:sp>
            <p:nvSpPr>
              <p:cNvPr id="706" name=""/>
              <p:cNvSpPr/>
              <p:nvPr/>
            </p:nvSpPr>
            <p:spPr>
              <a:xfrm>
                <a:off x="457200" y="1447920"/>
                <a:ext cx="8077320" cy="35812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7" name="" descr="Line Graph of Temperatures"/>
              <p:cNvPicPr/>
              <p:nvPr/>
            </p:nvPicPr>
            <p:blipFill>
              <a:blip r:embed="rId3"/>
              <a:stretch/>
            </p:blipFill>
            <p:spPr>
              <a:xfrm>
                <a:off x="2362320" y="1600200"/>
                <a:ext cx="4190760" cy="3124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8" name=""/>
            <p:cNvSpPr/>
            <p:nvPr/>
          </p:nvSpPr>
          <p:spPr>
            <a:xfrm>
              <a:off x="685800" y="3581280"/>
              <a:ext cx="14479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14400" y="2057400"/>
              <a:ext cx="14479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05720" y="4114800"/>
              <a:ext cx="144756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14400" y="2895480"/>
              <a:ext cx="14479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324480" y="4343400"/>
              <a:ext cx="457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57400" y="23623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2286000" y="3200400"/>
              <a:ext cx="7621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209680" y="342900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209680" y="36572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304920" y="380880"/>
            <a:ext cx="84582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ph that shows change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04920" y="5257800"/>
            <a:ext cx="853416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ne Grap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250" autoRev="1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37" dur="250" autoRev="1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8" dur="250" autoRev="1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304920" y="380880"/>
            <a:ext cx="8458200" cy="9471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ph that compares parts to the whole; decimals and fractions may be used on this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525780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ircle Grap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143000" y="6553080"/>
            <a:ext cx="655308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cwdn.org/Graphs/CirclePieQuiz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400440" y="32004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" y="1447920"/>
            <a:ext cx="8077320" cy="358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Chart of Day's Activities"/>
          <p:cNvPicPr/>
          <p:nvPr/>
        </p:nvPicPr>
        <p:blipFill>
          <a:blip r:embed="rId3"/>
          <a:stretch/>
        </p:blipFill>
        <p:spPr>
          <a:xfrm>
            <a:off x="2209680" y="1600200"/>
            <a:ext cx="4724640" cy="3316320"/>
          </a:xfrm>
          <a:prstGeom prst="rect">
            <a:avLst/>
          </a:prstGeom>
          <a:ln w="0">
            <a:noFill/>
          </a:ln>
        </p:spPr>
      </p:pic>
      <p:grpSp>
        <p:nvGrpSpPr>
          <p:cNvPr id="725" name=""/>
          <p:cNvGrpSpPr/>
          <p:nvPr/>
        </p:nvGrpSpPr>
        <p:grpSpPr>
          <a:xfrm>
            <a:off x="609480" y="1752480"/>
            <a:ext cx="8229600" cy="2121120"/>
            <a:chOff x="609480" y="1752480"/>
            <a:chExt cx="8229600" cy="2121120"/>
          </a:xfrm>
        </p:grpSpPr>
        <p:sp>
          <p:nvSpPr>
            <p:cNvPr id="726" name=""/>
            <p:cNvSpPr/>
            <p:nvPr/>
          </p:nvSpPr>
          <p:spPr>
            <a:xfrm>
              <a:off x="7391520" y="2971800"/>
              <a:ext cx="144756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480" y="1752480"/>
              <a:ext cx="14479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905120" y="1904760"/>
              <a:ext cx="11430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14400" y="3505320"/>
              <a:ext cx="1447920" cy="368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2133720" y="312408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552720" y="312408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0" dur="250" autoRev="1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1" dur="250" autoRev="1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2" dur="250" autoRev="1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"/>
          <p:cNvGrpSpPr/>
          <p:nvPr/>
        </p:nvGrpSpPr>
        <p:grpSpPr>
          <a:xfrm>
            <a:off x="457200" y="1295280"/>
            <a:ext cx="8077320" cy="3581640"/>
            <a:chOff x="457200" y="1295280"/>
            <a:chExt cx="8077320" cy="3581640"/>
          </a:xfrm>
        </p:grpSpPr>
        <p:sp>
          <p:nvSpPr>
            <p:cNvPr id="733" name=""/>
            <p:cNvSpPr/>
            <p:nvPr/>
          </p:nvSpPr>
          <p:spPr>
            <a:xfrm>
              <a:off x="457200" y="1295280"/>
              <a:ext cx="8077320" cy="3581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3, 84, 97, 98, 100, 78, 86, 100, 85, 9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8,  84,  85,  86,  92,  93,  97, 98, 100,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8,  84,  85,  86,  92,  93,  97, 98, 100,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2 + 93 = 185     185 /  2  = 9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114800" y="3962520"/>
              <a:ext cx="762120" cy="457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438280" y="2514600"/>
              <a:ext cx="4191120" cy="609480"/>
              <a:chOff x="2438280" y="2514600"/>
              <a:chExt cx="4191120" cy="609480"/>
            </a:xfrm>
          </p:grpSpPr>
          <p:sp>
            <p:nvSpPr>
              <p:cNvPr id="736" name=""/>
              <p:cNvSpPr/>
              <p:nvPr/>
            </p:nvSpPr>
            <p:spPr>
              <a:xfrm flipH="1">
                <a:off x="6476760" y="2666880"/>
                <a:ext cx="15264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438280" y="259092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895480" y="259092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352680" y="266688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809880" y="259092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019560" y="2666880"/>
                <a:ext cx="15264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5562360" y="2666880"/>
                <a:ext cx="15264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5105160" y="2666880"/>
                <a:ext cx="15264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160" y="2514600"/>
                <a:ext cx="9144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4419720" y="1828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419720" y="2362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19720" y="3048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419720" y="3581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304920" y="380880"/>
            <a:ext cx="8458200" cy="9471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ddle number in a set of data; must put numbers in order from least to greatest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04920" y="5105520"/>
            <a:ext cx="85341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143000" y="646740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gentsprep.org/Regents/math/mean/Pmeasur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3" dur="indefinite" restart="never" nodeType="tmRoot">
          <p:childTnLst>
            <p:seq>
              <p:cTn id="1554" dur="indefinite" nodeType="mainSeq">
                <p:childTnLst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9" dur="250" autoRev="1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0" dur="250" autoRev="1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1" dur="250" autoRev="1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304920"/>
            <a:ext cx="8458200" cy="5020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ting numbers together to make them easier to work w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+ 4 + 3 +7 + 6 + 8 + 9 + 2 =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  +   10   +   10   +   10 =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510552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ompo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4840" y="6216480"/>
            <a:ext cx="64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udyzone.org/testprep/math4/d/commutativep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71240" y="2286000"/>
            <a:ext cx="5639040" cy="1447920"/>
            <a:chOff x="1371240" y="2286000"/>
            <a:chExt cx="5639040" cy="1447920"/>
          </a:xfrm>
        </p:grpSpPr>
        <p:sp>
          <p:nvSpPr>
            <p:cNvPr id="107" name=""/>
            <p:cNvSpPr/>
            <p:nvPr/>
          </p:nvSpPr>
          <p:spPr>
            <a:xfrm flipH="1" flipV="1">
              <a:off x="2209680" y="23623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048120" y="2437920"/>
              <a:ext cx="137160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3047760" y="2362320"/>
              <a:ext cx="16002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3733560" y="2362320"/>
              <a:ext cx="9903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1371240" y="2286000"/>
              <a:ext cx="2286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600200" y="2362320"/>
              <a:ext cx="44956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5638680" y="23623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553080" y="2362320"/>
              <a:ext cx="457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9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04920" y="380880"/>
            <a:ext cx="84582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that occurs most in a set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04920" y="5105520"/>
            <a:ext cx="85341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57200" y="1066680"/>
            <a:ext cx="8077320" cy="3962520"/>
            <a:chOff x="457200" y="1066680"/>
            <a:chExt cx="8077320" cy="3962520"/>
          </a:xfrm>
        </p:grpSpPr>
        <p:sp>
          <p:nvSpPr>
            <p:cNvPr id="755" name=""/>
            <p:cNvSpPr/>
            <p:nvPr/>
          </p:nvSpPr>
          <p:spPr>
            <a:xfrm>
              <a:off x="457200" y="1066680"/>
              <a:ext cx="8077320" cy="3962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6, 66, 68, 73, 44, 62, 73, 44, 89, 55, 41, 7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1, 44, 44, 55, 56, 62, 66, 68, 73, 73, 73, 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1, 44, 44, 55, 56, 62, 66, 68, 73, 73, 73, 8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5257800" y="3581280"/>
              <a:ext cx="762120" cy="381240"/>
              <a:chOff x="5257800" y="3581280"/>
              <a:chExt cx="762120" cy="381240"/>
            </a:xfrm>
          </p:grpSpPr>
          <p:sp>
            <p:nvSpPr>
              <p:cNvPr id="757" name=""/>
              <p:cNvSpPr/>
              <p:nvPr/>
            </p:nvSpPr>
            <p:spPr>
              <a:xfrm>
                <a:off x="5257800" y="3581280"/>
                <a:ext cx="380880" cy="381240"/>
              </a:xfrm>
              <a:prstGeom prst="ellipse">
                <a:avLst/>
              </a:prstGeom>
              <a:noFill/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638680" y="3581280"/>
                <a:ext cx="381240" cy="381240"/>
              </a:xfrm>
              <a:prstGeom prst="ellipse">
                <a:avLst/>
              </a:prstGeom>
              <a:noFill/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6019920" y="3581280"/>
              <a:ext cx="380880" cy="38124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30720" y="6262560"/>
            <a:ext cx="850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bc.co.uk/education/mathsfile/shockwave/games/tra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swego.org/ocsd-web/match/matchgeneric.asp?filename=ccarroll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2" dur="indefinite" restart="never" nodeType="tmRoot">
          <p:childTnLst>
            <p:seq>
              <p:cTn id="1573" dur="indefinite" nodeType="mainSeq">
                <p:childTnLst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250" autoRev="1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89" dur="250" autoRev="1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0" dur="250" autoRev="1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304920" y="380880"/>
            <a:ext cx="8458200" cy="9471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the smallest number from the largest number in a set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04920" y="5105520"/>
            <a:ext cx="853416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143000" y="655308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quizville.com/range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457200" y="1447920"/>
            <a:ext cx="8077320" cy="3581280"/>
            <a:chOff x="457200" y="1447920"/>
            <a:chExt cx="8077320" cy="3581280"/>
          </a:xfrm>
        </p:grpSpPr>
        <p:grpSp>
          <p:nvGrpSpPr>
            <p:cNvPr id="765" name=""/>
            <p:cNvGrpSpPr/>
            <p:nvPr/>
          </p:nvGrpSpPr>
          <p:grpSpPr>
            <a:xfrm>
              <a:off x="457200" y="1447920"/>
              <a:ext cx="8077320" cy="3581280"/>
              <a:chOff x="457200" y="1447920"/>
              <a:chExt cx="8077320" cy="3581280"/>
            </a:xfrm>
          </p:grpSpPr>
          <p:sp>
            <p:nvSpPr>
              <p:cNvPr id="766" name=""/>
              <p:cNvSpPr/>
              <p:nvPr/>
            </p:nvSpPr>
            <p:spPr>
              <a:xfrm>
                <a:off x="457200" y="1447920"/>
                <a:ext cx="8077320" cy="35812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9,  73,  84,  91,  87,  77,  9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3,  77,  84,  87,  89,  91,  9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4 – 73 = 2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1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41972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343400" y="29718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3886200" y="3809880"/>
              <a:ext cx="990720" cy="106704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5" dur="250" autoRev="1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6" dur="250" autoRev="1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07" dur="250" autoRev="1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533520" y="1143000"/>
            <a:ext cx="8076960" cy="358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895480" y="1371600"/>
            <a:ext cx="2819520" cy="2971800"/>
          </a:xfrm>
          <a:prstGeom prst="flowChar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4267080" y="2133720"/>
            <a:ext cx="76212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ubPieSlice"/>
          <p:cNvSpPr/>
          <p:nvPr/>
        </p:nvSpPr>
        <p:spPr>
          <a:xfrm>
            <a:off x="2895480" y="1371600"/>
            <a:ext cx="2895840" cy="297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819160" y="2895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34340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80880" y="380880"/>
            <a:ext cx="84582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ikelih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n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v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5800" y="1828800"/>
            <a:ext cx="1981080" cy="18003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lor did the spinner land 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867280" y="1676520"/>
            <a:ext cx="2590920" cy="24789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his one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avor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t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qual ch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both col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835640" y="6216480"/>
            <a:ext cx="659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goodies.com/lessons/vol6/intro_probabilit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9" dur="250" autoRev="1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20" dur="250" autoRev="1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21" dur="250" autoRev="1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533520" y="1143000"/>
            <a:ext cx="8076960" cy="358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895480" y="1371600"/>
            <a:ext cx="2819520" cy="2971800"/>
          </a:xfrm>
          <a:prstGeom prst="flowChar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4267080" y="2133720"/>
            <a:ext cx="76212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ubPieSlice"/>
          <p:cNvSpPr/>
          <p:nvPr/>
        </p:nvSpPr>
        <p:spPr>
          <a:xfrm>
            <a:off x="2895480" y="1371600"/>
            <a:ext cx="2895840" cy="297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2819160" y="2895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34340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80880" y="380880"/>
            <a:ext cx="845820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ccurs or hap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1828800"/>
            <a:ext cx="1981080" cy="18003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lor did the spinner land 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867280" y="1676520"/>
            <a:ext cx="2590920" cy="24789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his one of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avor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t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qual ch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both col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832400" y="6216480"/>
            <a:ext cx="594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udyzone.org/testprep/math4/d/outcome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8" dur="indefinite" restart="never" nodeType="tmRoot">
          <p:childTnLst>
            <p:seq>
              <p:cTn id="1639" dur="indefinite" nodeType="mainSeq">
                <p:childTnLst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0" dur="250" autoRev="1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51" dur="250" autoRev="1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2" dur="250" autoRev="1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380880" y="457200"/>
            <a:ext cx="84582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utcome that will probably occur or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04920" y="4952880"/>
            <a:ext cx="853416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533520" y="1143000"/>
            <a:ext cx="8076960" cy="6119280"/>
            <a:chOff x="533520" y="1143000"/>
            <a:chExt cx="8076960" cy="6119280"/>
          </a:xfrm>
        </p:grpSpPr>
        <p:sp>
          <p:nvSpPr>
            <p:cNvPr id="795" name=""/>
            <p:cNvSpPr/>
            <p:nvPr/>
          </p:nvSpPr>
          <p:spPr>
            <a:xfrm>
              <a:off x="1143000" y="6476760"/>
              <a:ext cx="6553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http://www.studyzone.org/testprep/math4/d/likelyl.cf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3520" y="1143000"/>
              <a:ext cx="8076960" cy="358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95480" y="1371600"/>
              <a:ext cx="2819520" cy="2971800"/>
            </a:xfrm>
            <a:prstGeom prst="flowChar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67080" y="2895480"/>
              <a:ext cx="60984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PubPieSlice"/>
            <p:cNvSpPr/>
            <p:nvPr/>
          </p:nvSpPr>
          <p:spPr>
            <a:xfrm rot="5400000">
              <a:off x="2819160" y="1371240"/>
              <a:ext cx="2971800" cy="297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arcTo wR="10800" hR="10800" stAng="-5400000" swAng="-16200000"/>
                  <a:lnTo>
                    <a:pt x="108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4343400" y="13712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2819160" y="2895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85800" y="1371600"/>
            <a:ext cx="1981080" cy="19227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arrow landing on wh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095880" y="1219320"/>
            <a:ext cx="2286000" cy="2997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pinning the spinner 10 times, where is the arrow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l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st often? Less of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your answer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ert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cert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0" dur="250" autoRev="1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81" dur="250" autoRev="1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2" dur="250" autoRev="1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304920" y="685800"/>
            <a:ext cx="84582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utcome has the same chance of occur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04920" y="5105520"/>
            <a:ext cx="853416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qually Likel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43000" y="655308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533520" y="1371600"/>
            <a:ext cx="8076960" cy="3581280"/>
            <a:chOff x="533520" y="1371600"/>
            <a:chExt cx="8076960" cy="3581280"/>
          </a:xfrm>
        </p:grpSpPr>
        <p:sp>
          <p:nvSpPr>
            <p:cNvPr id="808" name=""/>
            <p:cNvSpPr/>
            <p:nvPr/>
          </p:nvSpPr>
          <p:spPr>
            <a:xfrm>
              <a:off x="533520" y="1371600"/>
              <a:ext cx="8076960" cy="3581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200400" y="1600200"/>
              <a:ext cx="29718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0" name=""/>
          <p:cNvSpPr/>
          <p:nvPr/>
        </p:nvSpPr>
        <p:spPr>
          <a:xfrm>
            <a:off x="1908720" y="6537240"/>
            <a:ext cx="55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tudyzone.org/testprep/math4/d/likely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6" dur="250" autoRev="1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7" dur="250" autoRev="1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8" dur="250" autoRev="1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533520" y="1219320"/>
            <a:ext cx="8076960" cy="3581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895480" y="1447920"/>
            <a:ext cx="2819520" cy="2971800"/>
          </a:xfrm>
          <a:prstGeom prst="flowChar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ubPieSlice"/>
          <p:cNvSpPr/>
          <p:nvPr/>
        </p:nvSpPr>
        <p:spPr>
          <a:xfrm>
            <a:off x="2895480" y="1447920"/>
            <a:ext cx="2895840" cy="297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2819160" y="2971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434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vent that you think will occur or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580920" y="2971800"/>
            <a:ext cx="6858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324480" y="1676520"/>
            <a:ext cx="1981440" cy="22269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lor do you think the arrow will land 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85800" y="1447920"/>
            <a:ext cx="1981080" cy="18003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olor 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ss lik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143000" y="6400800"/>
            <a:ext cx="678168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hodor.org/interactivate/activities/spinner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38080" y="3429000"/>
            <a:ext cx="1981440" cy="11912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olor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lik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6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2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250" autoRev="1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31" dur="250" autoRev="1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2" dur="250" autoRev="1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0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80880" y="609480"/>
            <a:ext cx="84582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utcome that will never occur or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09480" y="5105520"/>
            <a:ext cx="853452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Impossib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990720" y="6477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bc.co.uk/education/mathsfile/shockwave/games/fish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533520" y="1295280"/>
            <a:ext cx="8076960" cy="3581640"/>
            <a:chOff x="533520" y="1295280"/>
            <a:chExt cx="8076960" cy="3581640"/>
          </a:xfrm>
        </p:grpSpPr>
        <p:grpSp>
          <p:nvGrpSpPr>
            <p:cNvPr id="827" name=""/>
            <p:cNvGrpSpPr/>
            <p:nvPr/>
          </p:nvGrpSpPr>
          <p:grpSpPr>
            <a:xfrm>
              <a:off x="533520" y="1295280"/>
              <a:ext cx="8076960" cy="3581640"/>
              <a:chOff x="533520" y="1295280"/>
              <a:chExt cx="8076960" cy="3581640"/>
            </a:xfrm>
          </p:grpSpPr>
          <p:sp>
            <p:nvSpPr>
              <p:cNvPr id="828" name=""/>
              <p:cNvSpPr/>
              <p:nvPr/>
            </p:nvSpPr>
            <p:spPr>
              <a:xfrm>
                <a:off x="533520" y="1295280"/>
                <a:ext cx="8076960" cy="3581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895480" y="1523880"/>
                <a:ext cx="2819520" cy="2971800"/>
              </a:xfrm>
              <a:prstGeom prst="flowChar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67080" y="3048120"/>
                <a:ext cx="60984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1" name=""/>
            <p:cNvSpPr/>
            <p:nvPr/>
          </p:nvSpPr>
          <p:spPr>
            <a:xfrm>
              <a:off x="6019920" y="2057400"/>
              <a:ext cx="2133360" cy="22269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are the chances of the arrow landing on blu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8" dur="250" autoRev="1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69" dur="250" autoRev="1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70" dur="250" autoRev="1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143000" y="655308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33520" y="1676520"/>
            <a:ext cx="8076960" cy="4800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40600" y="6491160"/>
            <a:ext cx="741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agonyaunt.co.uk/STATISTICS/ESP/Perms_comb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76520" y="3352680"/>
            <a:ext cx="5638680" cy="28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or no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ganized l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l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sible outc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mple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possible outcomes to determine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2120" y="2168640"/>
            <a:ext cx="7619760" cy="947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digits 3,4 and 5.  What are all the possible three digit numbers you could cre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391520" y="4218120"/>
            <a:ext cx="1523880" cy="1202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5, 3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5, 4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4, 5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0080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29400" y="5562720"/>
            <a:ext cx="152388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43600" y="54100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238880" y="3292560"/>
            <a:ext cx="1676520" cy="8240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this problem.  Different orders make different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477120" y="35812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80880" y="228600"/>
            <a:ext cx="8458200" cy="1739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tegy for solving problems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termining outcomes:  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mbinations and Permutati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2971800" y="990720"/>
            <a:ext cx="3429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al 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457200"/>
            <a:ext cx="8458200" cy="4093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ing a number apart to make it easier to work wi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 X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952880"/>
            <a:ext cx="85341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Decompo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4840" y="6216480"/>
            <a:ext cx="64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udyzone.org/testprep/math4/d/commutativep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4880" y="2833560"/>
            <a:ext cx="519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80368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30 X 10) + (30 X 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 + 120 = 4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6" dur="25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730160" y="5942160"/>
            <a:ext cx="595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tudyzone.org/testprep/math4/i/dpatterns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tudyzone.org/testprep/math4/k/patterns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tudyzone.org/testprep/math4/k/patternsp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80880" y="304920"/>
            <a:ext cx="8458200" cy="155628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dered set of numbers, shapes, or other mathematical objects, arranged according to a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09480" y="1981080"/>
            <a:ext cx="7925040" cy="3124440"/>
            <a:chOff x="609480" y="1981080"/>
            <a:chExt cx="7925040" cy="3124440"/>
          </a:xfrm>
        </p:grpSpPr>
        <p:sp>
          <p:nvSpPr>
            <p:cNvPr id="848" name=""/>
            <p:cNvSpPr/>
            <p:nvPr/>
          </p:nvSpPr>
          <p:spPr>
            <a:xfrm>
              <a:off x="609480" y="1981080"/>
              <a:ext cx="7925040" cy="3124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762120" y="2133720"/>
              <a:ext cx="7162560" cy="2495520"/>
              <a:chOff x="762120" y="2133720"/>
              <a:chExt cx="7162560" cy="2495520"/>
            </a:xfrm>
          </p:grpSpPr>
          <p:pic>
            <p:nvPicPr>
              <p:cNvPr id="8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33920" y="2133720"/>
                <a:ext cx="4190760" cy="249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2120" y="2514600"/>
                <a:ext cx="2209680" cy="1590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2" name=""/>
          <p:cNvSpPr/>
          <p:nvPr/>
        </p:nvSpPr>
        <p:spPr>
          <a:xfrm>
            <a:off x="380880" y="4876920"/>
            <a:ext cx="8458200" cy="10083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609480" y="4876920"/>
            <a:ext cx="853452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nput/Output cha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523880" y="6019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udyzone.org/testprep/math4/k/addpatternsl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hodor.org/interactivate/activities/NumberCrunch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09480" y="457200"/>
            <a:ext cx="815364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hart that shows a consistent rate of ch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838080" y="2057400"/>
            <a:ext cx="7925040" cy="2666880"/>
            <a:chOff x="838080" y="2057400"/>
            <a:chExt cx="7925040" cy="2666880"/>
          </a:xfrm>
        </p:grpSpPr>
        <p:grpSp>
          <p:nvGrpSpPr>
            <p:cNvPr id="857" name=""/>
            <p:cNvGrpSpPr/>
            <p:nvPr/>
          </p:nvGrpSpPr>
          <p:grpSpPr>
            <a:xfrm>
              <a:off x="838080" y="2057400"/>
              <a:ext cx="7925040" cy="2666880"/>
              <a:chOff x="838080" y="2057400"/>
              <a:chExt cx="7925040" cy="2666880"/>
            </a:xfrm>
          </p:grpSpPr>
          <p:sp>
            <p:nvSpPr>
              <p:cNvPr id="858" name=""/>
              <p:cNvSpPr/>
              <p:nvPr/>
            </p:nvSpPr>
            <p:spPr>
              <a:xfrm>
                <a:off x="838080" y="2057400"/>
                <a:ext cx="7925040" cy="2666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81280" y="2362320"/>
                <a:ext cx="2971800" cy="2144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60" name=""/>
            <p:cNvSpPr/>
            <p:nvPr/>
          </p:nvSpPr>
          <p:spPr>
            <a:xfrm>
              <a:off x="1066680" y="2286000"/>
              <a:ext cx="2057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ahoma"/>
                </a:rPr>
                <a:t>Function Mach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6781680" y="2057400"/>
            <a:ext cx="175284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-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6781320" y="2895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5" dur="indefinite" restart="never" nodeType="tmRoot">
          <p:childTnLst>
            <p:seq>
              <p:cTn id="1816" dur="indefinite" nodeType="mainSeq">
                <p:childTnLst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2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9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2" dur="250" autoRev="1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33" dur="250" autoRev="1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250" autoRev="1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09480" y="457200"/>
            <a:ext cx="815364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mathematical sentence where the left side equals the right s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9480" y="4952880"/>
            <a:ext cx="853452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quation/Express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38080" y="2057400"/>
            <a:ext cx="7925040" cy="2666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2"/>
          <a:stretch/>
        </p:blipFill>
        <p:spPr>
          <a:xfrm>
            <a:off x="2057400" y="2316240"/>
            <a:ext cx="5715000" cy="22446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1463040" y="6172200"/>
            <a:ext cx="67705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www.studyzone.org/testprep/math4/d/numericalp.c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5" dur="indefinite" restart="never" nodeType="tmRoot">
          <p:childTnLst>
            <p:seq>
              <p:cTn id="1836" dur="indefinite" nodeType="mainSeq">
                <p:childTnLst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7" dur="250" autoRev="1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48" dur="250" autoRev="1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49" dur="250" autoRev="1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457200" y="457200"/>
            <a:ext cx="815328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letter or symbol that represents a number in an algebraic expre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80880" y="4952880"/>
            <a:ext cx="853452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609480" y="2057400"/>
            <a:ext cx="7925040" cy="2666880"/>
            <a:chOff x="609480" y="2057400"/>
            <a:chExt cx="7925040" cy="2666880"/>
          </a:xfrm>
        </p:grpSpPr>
        <p:sp>
          <p:nvSpPr>
            <p:cNvPr id="871" name=""/>
            <p:cNvSpPr/>
            <p:nvPr/>
          </p:nvSpPr>
          <p:spPr>
            <a:xfrm>
              <a:off x="609480" y="2057400"/>
              <a:ext cx="7925040" cy="2666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2362320" y="2367000"/>
              <a:ext cx="4572000" cy="227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"/>
          <p:cNvSpPr/>
          <p:nvPr/>
        </p:nvSpPr>
        <p:spPr>
          <a:xfrm>
            <a:off x="1909080" y="6172200"/>
            <a:ext cx="597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plusmath.com/Games/PlanetBlast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vectorkids.com/vkvariabl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2666880"/>
            <a:ext cx="1447920" cy="1557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ide of the = symbol mu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rot="16200000">
            <a:off x="2743200" y="2514240"/>
            <a:ext cx="152280" cy="609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rot="16200000">
            <a:off x="3809880" y="25138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7652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676520" y="29714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1676520" y="2971440"/>
            <a:ext cx="2133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6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9" dur="250" autoRev="1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70" dur="250" autoRev="1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1" dur="250" autoRev="1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609480" y="4952880"/>
            <a:ext cx="853452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09480" y="457200"/>
            <a:ext cx="8153640" cy="1312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ariab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presents the number you are solving to find, termed as th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38080" y="2057400"/>
            <a:ext cx="7925040" cy="2666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429000" y="2743200"/>
            <a:ext cx="286236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X + 3 = 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1295280" y="3200040"/>
            <a:ext cx="19051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3733920"/>
            <a:ext cx="3352680" cy="1069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”  or some othe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to represent the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758600" y="6324480"/>
            <a:ext cx="61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lvm.usu.edu/en/nav/frames_asid_201_g_4_t_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3" dur="250" autoRev="1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84" dur="250" autoRev="1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5" dur="250" autoRev="1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380880" y="5257800"/>
            <a:ext cx="853452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28600" y="152280"/>
            <a:ext cx="8534520" cy="11912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rder in which operations should be d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302120" y="6216480"/>
            <a:ext cx="67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athgoodies.com/lessons/vol7/order_operati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cweb4free.com/op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4857840" y="2971800"/>
            <a:ext cx="4133880" cy="115560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3"/>
          <a:stretch/>
        </p:blipFill>
        <p:spPr>
          <a:xfrm>
            <a:off x="1066680" y="1487520"/>
            <a:ext cx="37339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250" autoRev="1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07" dur="250" autoRev="1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8" dur="250" autoRev="1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Resources are listed at the bottom of each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eachers.ash.org.au/jeather/maths/dictionar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2:58:21Z</dcterms:created>
  <dc:creator>CCSS</dc:creator>
  <dc:description/>
  <dc:language>en-US</dc:language>
  <cp:lastModifiedBy>Rutherford County Schools</cp:lastModifiedBy>
  <dcterms:modified xsi:type="dcterms:W3CDTF">2007-04-22T17:58:53Z</dcterms:modified>
  <cp:revision>25</cp:revision>
  <dc:subject/>
  <dc:title>From 2006 draft of 4th grade indicators</dc:title>
</cp:coreProperties>
</file>